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wmf" ContentType="image/x-wmf"/>
  <Override PartName="/ppt/media/image14.gif" ContentType="image/gif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start.wav" ContentType="audio/x-wav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6141C-AE4A-4433-ADA9-259ED3E9B2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63656-E675-4BD9-9428-0784E012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A7DF84-A3D1-4330-ABA0-FF13B2D5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7E9928-25E8-4961-8B26-AED1E3B6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E18AB3-6BDD-4D6F-A8F8-28A7FEE0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07DB17-32E9-4696-9AAE-EDD2B9CA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21C5E5-2CE6-4084-A087-20FDBAB0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F484C0-B8ED-4B45-A5EB-44EEF152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71EC16-671B-4D6C-8CBA-093B937E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CA4E0F-F9C9-4F9A-9ECC-6D73C07B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ECD9B6-8D31-432F-A065-1B26CF529C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23AC4-6B15-4440-8173-6AC287317A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02F32-7BEC-4EDF-801D-8CEC53CC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80B2F-02FA-4F16-BF3E-5BC7FE75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1092A-975D-4841-A7BB-35C3C19A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D4107-A9FD-4B9C-BCF4-68E6C9FD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F0A7C-6274-47CB-9310-4CBCCF0D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72732-3B61-4D6C-8A8D-0E4F6A1C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5633C-A383-4C5C-B371-14F29EA5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FB472-CAF7-4F28-8C90-191C5218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62DB9-8C85-4FB7-85F7-03E612EA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1F84C-5B32-4C66-AED7-CEB0E25C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35788-C615-401C-82D3-5E01DA32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8CCCB-BF4E-4777-BD5A-DAD992BA99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726E5-40A7-400C-9240-8083A7E983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C85A41-6762-492D-8BD5-4114CE032F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97FA5C-29E2-4692-A848-CFD8C9E6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6FB1A6-867F-41C3-8864-CE3FC44C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C8B6C2-B6C2-4FE3-AFC7-1F1924A1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AAF800-63C8-49D2-BC7F-76822DA4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820EE9-F4B7-4B70-B4C7-4C3B1AB9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EED1C7-B74B-4D22-AFD0-482F5AC7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C5B0B1-63DF-4AA3-9FA3-4AB50009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4B0649-DD7F-4D67-9EE1-347B8441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F12A7-4C91-4997-A6C3-2F7255FBB6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397AFF-DCA0-46F8-A8DD-CDBDFAD4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3BF33B-B40E-4508-950A-C6893E6E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4D6DAB-F0F0-4C9C-A82F-18750DEF72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B2444-16C3-4016-A296-BB4BC841FD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E3AD9-7AFA-4D50-BEC4-B7397086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CFDBE-C904-4C55-9E16-C713381E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99DBB0-2616-471B-A6E2-A8D1BA9D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FAD24-3B65-47E0-B3AF-16D5C1A2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856B5-9A20-473E-847E-4997224A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16E0F-3811-4E56-94EF-89D06678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D16C9-BED3-4666-982E-04994963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EBBC3-16FB-4BC9-BEEB-297190DD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C1597F-8BB3-43A9-870F-47AE97AF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246A80-D690-4C91-A252-F4A9060B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4D39E-B005-48BD-BFB1-E689473F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50608-85F6-48EA-BCBE-4201FDE54F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022E7-6D4A-44AA-A7E5-B056AB0829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61BE9-D5A0-4C7A-A598-D0560C8F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31576-0B23-4BD4-A8A6-B42428B1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25C8D-B55A-49A2-9428-9698ECEE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7FC25-486A-42C7-BBA9-CB8AF6D0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F35B1-E415-4A9C-8881-5B0448BF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4281A-9A2A-4397-A823-013F0EE0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73456-7574-4A8F-901F-98B11DFD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0F4D0-D5F9-4755-AF47-79384B71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563BE-DE26-435F-A59B-2F21FBC5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CC26C-B2E6-43D4-9303-BA1007C2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8878F-6FE7-4D0B-AB22-85D2ED66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82F1A-E8C0-4D31-AB8A-6DBFC38E7C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BF0526-57EA-4ED0-A70B-79858072A3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EDBD97-BD3D-424E-BE17-CDC62AD7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1D77C6-1EA9-42E0-AA07-7599A4C0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278F2-6196-4267-A01A-BEE5F530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6FC535-CE04-4CBE-A9C4-8702CBB7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B725C3-EF05-427A-93BF-C86EDBBE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948D8C-EDF6-46A3-BBAD-16F7BED7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40D3D3-9830-4D99-9A02-488E06FB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CE51BF-AA35-46EF-A8AD-4FCA44C3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50F54E-5C5B-4803-8104-85EB502D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8FF077-FFE8-460F-BED0-6F52761B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79DB16-7A95-4EE3-87B9-58C9F35A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D4FA47-0633-42AE-AACB-D0E5F58E92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3362A4-1BD5-4B7B-9BA4-049E5432C9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0FBD5-72CC-4CF6-953B-1CF936BC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23DE3E-1AFE-44EF-8B02-15525B54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FCFF28-2411-4CE2-97D9-547BDA01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53E7FD-2799-42F7-8985-C317780C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E05AB3-D3FC-4FBE-B602-2435A316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A2EE0D-DE25-494A-B1D8-8BB4E986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45B657-B4FF-4504-B045-A3D4AD68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786DD2-8415-4EB5-9725-BF8A32C8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307951-1741-4012-935E-3A98D5D7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6B198D-ADA4-4A5C-8E81-E8AE6E79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E879DB-F3CB-45E8-A268-86F34738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BE7D7-3CB6-4FD7-9AB2-A629089F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857817-C946-49FC-B1C9-B4F547C37A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AB2CD-0A09-4426-BE4B-48C1B6B0C6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5E1F1-816F-40BF-A19B-DC6DC096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A7B30-5970-40A5-8A0F-5D029A3E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C94ED-325B-4AD6-936F-D583114C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1AAA0-D06D-4B39-9E67-C4396182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50474-651A-4B7B-AFAE-2C45248E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69120-24DE-47B4-9C16-BB8F8617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C7BAD-FF80-4F30-91DF-5809B4D2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5B2AF-7708-43F0-8CD3-7ECA397B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5761D-E008-4DC8-92C3-F54360EF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03706-B4AF-48B3-831C-EE440A60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58636-AF15-4DFF-8871-F32583D2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AFD96-CCDC-4D91-A7FD-94E9BDA953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D73E26-2B8C-43E5-BAD2-6C0148F541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2417F0-CCCF-44B8-8705-43BB0412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B017DA-C034-4201-B0F1-656E91A2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B02BF5-F4EC-4B81-8DE3-84950DD8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5BD616-CADE-4BFC-9622-1F600A25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B665A2-48A9-4AD9-8FC0-C1729EC4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A41C46-C3C2-4AC6-A441-F41B3E1E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E4896-BDA9-4581-A982-83237DF2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A6A70-23C0-46AF-99F6-2D4D2E1D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563DAD-C629-4D6D-A5E7-6B1CB6CF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5626BE-28A9-49C2-BC55-687BB8D8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01BFBD-77FC-4EE8-BC80-F47558DB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36CED0-B254-43A6-BF13-DE871BA4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300730-B091-4ECB-BCF3-6969FD3BFF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BE7899-F0A1-4B50-B911-1701FDEB4F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5D7B70-CA5D-4F62-BA56-C2759C5B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7BD32C-4528-45CA-B67E-282B1BBC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D77EEB-0A6B-4BC9-B549-DDDA7524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645779-CA6A-4389-92BC-F04B54E1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E9244-D017-47A4-B76C-1C7C1B86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FDD86C-8798-41EC-90D8-310D81E1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8C39BC-FCE1-47BA-82CA-39FF7711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4444F4-797E-4A99-BA7D-E392F607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7EF3B2-4198-4356-AA9A-39108396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501DB9-9172-4145-A680-4B6DD28A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ED19D2-A8AA-43BC-8F55-C2B797D5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04BFDE-4DE5-4715-9332-A5A592CE42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9B179-4C5E-4364-8EA9-399D147A7A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DA1FC-FD17-4ED0-AADB-4B1087E4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96E11-904B-4581-8675-9D000111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E8AC2-8446-44B5-96A4-F9566FB1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F0B39-6E06-4C6B-8930-01F676D4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C5880C-DCBA-46C6-ABAC-AE86438B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32A88-881E-45A4-A167-5F34F2DD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553D1-7C02-4543-AF2D-900D9785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AA511-502E-4369-90ED-5D3F9988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4B084-5835-4187-99BC-AD14EF84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D686D-6808-4BAD-898A-2966621D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C4A65-FD28-4CAF-B6E5-88D533B5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1C2F6-2005-47B2-BAA1-B555B3BD0C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6E93DF-A4CB-4369-BF71-EFA7490DE5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9C97C-A663-464C-9CF3-9DA7DAF6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290598-EB58-47AE-B278-8D8BA8F3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5EF678-E4D0-483A-A76C-4D5A0530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631990B-A1D4-434F-9BF7-159DB795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FA7B18-AB13-4825-8E0B-73AB4DB8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38E22F0-5175-4359-9874-6AF4F166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7EF314-3656-4B17-8E33-D4B1E3C8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F68D23-B922-435E-AA2F-63F6AA3A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AC89C4-71B1-4C7D-B41E-98B107FE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A46719-5360-4323-888E-DF294C44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04EA09-EFC3-4FB4-A1FA-1B229FC0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3E158-B231-4B10-BF93-E0ED7D4215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827FEDE-DA0E-41C5-95B4-36C8266517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3DCFEDF-4ECD-4BAD-A401-E4B683D6C6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326336E-1FF9-4921-9457-950E4BB3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DB6A489-44C8-4777-ACD5-0102C73D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8B11A8E-9BE8-4617-83AE-6707D0CF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4277817-95D3-4344-BF50-FF841680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096CC1C-48F4-424D-A090-AE4F10F8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6A6F70-DC10-4D44-9821-38CE3FFC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5881D24-901F-46D7-8E42-ADAF367E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643B40C-A992-4F0C-97FF-0FB112DF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50E1E5-4481-4707-B2C8-37A47EFF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560A601-A0A3-4832-96FB-E55666F0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33D0733-6B75-4622-8B46-7F8A73C2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A5BD57-18DE-4BCA-AC5D-05CAB078B0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BB2CF7-4645-435B-9C10-00B690540D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596400-5E83-4185-B03C-606D405A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4C2A9F-8AAE-496D-962F-75F6BB5D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EAE5F7-D563-464B-8367-F02AE7A6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072DA-0F46-4195-9448-8EB80FF2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22D01F-97EA-45FE-8DDE-6009530C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408ACB-5B20-4B4A-8DEA-CD3573A1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CB0FC5-A59B-4119-926A-46FE52A8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EB8A5C-C8AA-463A-AA78-624555B2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8B921A-89D3-4CC1-B7BE-418C6622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9D603-0985-4995-BCBD-02DFDCE4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F02E5-F5D8-4AB4-85A2-C101EDD0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D427F-D723-4486-B0B5-CFCFFD6F5D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4C72049-4EE6-4343-A385-54BDCB7498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A1B302-8B2B-4470-9097-5BF8E1D8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4EB454-39AC-4C40-966B-F0F6308C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EAC8AE-0ECB-4AA0-B6E6-F3AB7182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586345-E210-4A46-9503-F566D7DC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667FF6-2264-4176-AD55-791E5B85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5A75F55-DBD8-4391-8F15-C0C6335A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105686B-86D9-403E-99FC-56CD3CA7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A82D00-4266-4295-A089-57DE724A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594D5D-B652-4939-96EE-0FBB71E9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CFC876-7267-4466-8EA4-2CAB1242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55B11E-72E6-4413-902F-5E1B8B74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5470D14-CE92-4553-A5F9-2DCB73B4F0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70261A4-E9BD-4FCD-AC7A-1174749C52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2E99EE6-9100-4D79-8F13-1DEE44F4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5E2203D-8E1E-48CA-805D-2995B721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6214C3-F524-40CF-944F-805BB071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EFE9EB1-959F-48A2-8D12-B337CF4A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472E3A8-2801-4C29-945F-F2E85836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54D5883-D4B4-4AD4-A45E-462F412D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7D5169B-481D-4B31-B335-3D354E0F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3B2F9AB-B3E6-494E-9953-33FB36DC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82D6CCD-5DBC-4735-8223-724EB3EE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2D5A197-3BAB-49A6-8ED9-2201A8CF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2AF1A8F-D2B3-4304-B8F4-4D05B17D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BFF88B3-F9D8-45F1-BC5D-D5AD89063C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948454-1201-4387-8CC7-D4EF6F3952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9DAB49-27D6-44EE-A602-9ED03620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A84B66-5DA5-40E1-8B3E-318D4FD0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7B1DFF-C4A9-45DA-8D56-98968D46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4AA7D7-3AFD-46FE-98DF-0316AB35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B20F06-B426-45FC-9FFA-C441CA09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B483C-65FF-42BF-9187-8B30F4FF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995BD1-1910-44EF-B2C3-00794724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CD4D2-807A-4DA9-823C-74B3D963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FC8BFD-70EE-4449-B3EF-CCEF06C7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A4FB0E-6463-4182-BFC7-9B6A2B4A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8BAE30-4D9B-4BCB-9746-F268A61A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51ECE-C74F-4B7C-88F4-4845C3EB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658B5A-0053-4457-938A-BFFAF7AB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5AA425-8059-4630-8CFF-A48EE9A706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0066E3-0661-42A8-BF57-81A02486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313E3E-8DB8-43FA-B9D1-FA5BF3A2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830922-0C59-4644-B48D-99BE2BD5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FB96CD-26C3-4113-A5D5-3AD208F9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40DBF0-E571-4AE8-B40A-17AB3378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A21DA9-80FD-4565-95A7-945AE5AA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35F857-7316-4A98-837F-BD6D8BB8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06F511-BB7C-46D3-86CD-AE3E3D52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29BCF6-3C61-4687-AC03-92D0900A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C910D0-16D7-4B29-A044-99E3EF89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0D96D5-1768-43B2-8E01-5262108D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19D2E0-0C0B-4D26-B784-95E85B09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F21E53-B3B4-4BF7-8B1D-70791E1D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129B79-4220-422B-B285-2D06285E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5449EC-2C01-46B9-B7F5-A13DF6A1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A3A516-BB65-4741-9E2D-08F256D1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2C21EE-5A4E-45FB-AADB-4DC01C17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866297-4C5B-4DD7-8065-1C306B61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9D3E82-2231-4410-9B0C-1392F9DB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50D89F-FBAE-4D0F-A07D-D75FEC10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610DC8-6E68-440F-B028-33350379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11C021-8143-4B73-9A38-894E260D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536490-5E88-4451-A8DF-03F43101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D9C1EC-82A1-4EF4-ABD8-8DCABF9C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B9E8F4-2C66-43E6-B2E5-CD693E63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047AE2-B790-440F-A2F6-A599B755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F4D454-5441-4F74-BB63-D18284D0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5BBE1E-46B0-47AA-A161-813A68BC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5237F6-6911-432E-8E2A-6B7B3BDA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DA3AF2-2AEE-4921-990D-697309A7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9A2141-0A06-41E3-936E-130A251B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4AD2E1-06C2-4E1B-8C9E-A0AD82A3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56A5AB-D646-4B31-BDAF-15ABA452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B88C13-9B9E-4E11-B1CC-01789AC1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0DC28A-CFBB-406C-99A7-EBBD6C6B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E5CF49-677C-4B01-A953-259D048F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D157A6-9BA3-4A23-A826-7EAB0839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9728B4-EBEA-411E-8694-6D58A50D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10CCF0-EEAB-4277-B246-DB2D459B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933784-725D-409E-A1FD-114A6D52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695461-10F9-4BCD-81F5-E92685C8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2B798A-3467-436D-A9B7-C0240D4E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92830C-F9D4-43C4-9F2A-863416D2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6873D6-E6C3-4C5B-A939-FED757A1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FBD118-F498-4A23-9C3A-00BB0406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29B5F9-AA87-4307-B0EF-CB091D7C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140DB9-40EB-4BA0-9911-CB9A2928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DCE969-8DC6-4B4B-93BE-6F3F43B1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D90E90-F4F0-4EC2-BF68-7EFF4F95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0F9E19-61B4-4A08-8525-016FE3AC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FAE592-31A6-4CDC-B2A9-8F2E3570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2A6C1A-0976-4A92-8BE4-CFCED810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694CE2-54AD-4D3A-B24D-11E4C3EF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A167DE-5536-42E3-AF1E-C15E90A9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F68738-EF09-44DE-ABAE-06815167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11A8C8-86CA-4093-849B-C3DC2068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2E2CB9-FA19-4BB2-A259-1C08187A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5CED8F-4BA2-403A-9079-192ED7C8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5C6B7C-C091-485B-87A0-A5D83B9E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6F0CF7-6F44-4DDB-9B75-ED227091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CEBD24-B599-43B2-889A-527A01A5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A83C0E-EC94-403D-A13F-358EBD75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A5226C-8A25-44F4-9E5C-D443F3C2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91834A-CBF4-4B64-8D75-887B4E76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97FD92-59B4-4811-87A2-82F30F57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F012C0-C2F0-470B-ABD4-0FE322C8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C673D1-A497-4B63-A694-C81D6D76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CEA045-192D-401D-987C-4068B741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3DA689-BE9D-4C1A-BCA2-72E206AF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FA380F-435F-4886-80D2-D1E7BA14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F56B22-CCBB-4F8C-8D1F-7A515A4E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B7A3E7-AC82-4CEE-89C1-31636974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2C475B-E5B0-4130-843C-9C09E6AA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F9AD35-B15B-457F-9E65-0D76E42B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D49997-6D6A-4A4C-BD8D-F8799BD6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95E2D-6A86-48FB-BA02-68558252D0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2F4C9A-6713-4C4C-9383-ABCD313C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92DD20-995D-48EF-9115-DE4713EE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AD4F7C-63BE-4FEF-8389-89845A37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A1EBAB-F64E-4654-995B-FFF85ECD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4D9E16-13B3-44DC-AD77-28634911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0CC453-E17E-467E-9CBA-FEDB81AE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E2C3A2-A13F-4295-8187-E63A5998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B9A3FA-CA69-44FC-BEBA-048DBBB8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51C8C8-59F1-4778-A5FC-05A56449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4F100C-250E-479B-B197-F91B7FE9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DD8DD-7EB6-4D1E-B2D6-D8023CD4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E840F7-52F3-40AD-89C1-C8FBC71A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5AA9CC-B6F4-4015-BDD7-D3FF5EB1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81D3FE-EC08-4A93-AF24-D9D4AEAA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D7C8CF-59E2-48A7-9CAA-A044A249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19B5B3-007F-4B06-BC04-6844026B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D66816-22FF-40C2-9149-0E4C1B07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90331C-3FB8-4FD4-939E-65320133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25D479-D757-4878-BDB6-244E3BEE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55A311-6087-430D-9731-77BF8963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2FEC50-0BC4-4B67-A216-4F5D5DB2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A1EB7-881E-4DFD-AA86-441D9771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110C3A-0F7C-4EC7-95A0-45B1E931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94435C-57DC-4A27-8128-7D2EFD9C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DC1776-F342-4C18-8ADA-C35433DB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CF8BC2-19E6-444C-AD84-00FD6FDD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B01A99-8BF0-4D58-884A-D092DFBE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1A1B17-5041-4081-BD0A-2C538B23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9D0EBD-89BF-48CE-9B63-23ABDEC5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C1C8F2-FB78-4F70-86A2-717C93DB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47EF8A-275C-41EE-8DB3-9B9C751B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218505-AE02-4237-B69D-03F7CA80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4A57-6636-44BB-8B8B-057C7BA6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C6BFF-2EC5-4B51-AAFD-D722FB28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B10A23-6672-41E2-BF45-A2679F10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BDB538-956F-4C63-B8E8-0F2164AE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B27AD2-56D4-4D1A-A41D-B1B7EAED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C0AEDE-1251-4A5E-BC13-F430618F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938955-9D14-495A-B5BD-43CA6045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2032BF-09F8-4008-B827-2835BE7D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FE17B4-09A9-429D-B573-90D0E199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A1C982-B758-4BE0-B056-0361DF1E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73D538-0603-4A29-B3EB-EA3B5059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2B7670-4D69-4B66-A5C7-D20F40AF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0B711-00CE-486F-9955-4D9A18E7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CC2D59-D92E-4EFE-B82E-94672215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0B18B8-8CC6-49DF-AA01-ACB78D3A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E63BA7-CBAB-4C3C-949C-874A89D1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42C9CB-5D7C-4CA9-AFD5-5F7500F5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A86755-72E0-4D1F-A805-315F1446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9A428F-DB09-46E4-B94C-6E5205EB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DEA4E6-9237-4BC2-B04F-505DE772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D0BB73-0A37-4219-AA90-8A5177B4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992BDB-0C38-4EB8-B54D-1F48818D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C91549-3D6E-48E8-84C0-EE37F1BF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68A09-6E42-4FBF-A860-45E6E140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995493-49D5-48C5-B942-A0805504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A220D1-992B-4DC0-BCD1-6AAFD265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EBB843-0CF3-450F-977A-8BF49002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68F92D-0ED6-4106-AC05-00C7AAA3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7B71DD-D1AF-4211-8DF7-C0DEEFA6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F71F6B-608C-4501-A842-ED9F2824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CA2B97-ABA7-4BB4-BFE7-8070FACF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60CDEC-A7A8-418E-BDE5-4B6BE55D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DE646E-4990-4F36-A141-7F1A2648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5319C9-508C-4605-AE65-6D622F4F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3DA92-5724-4E43-947A-5DDBEB93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FAA2B8-083D-44E3-B81F-DAA0448E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08950E-0AB4-4AF3-88C4-649EBB27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DBB62D-D3A9-4D48-93EA-137F3886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21800-ADFF-4459-A02B-C76920FD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1D165-DC09-40CC-B4E8-C2E65A89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B046A-69E6-4088-993E-1F9A37B8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371B5-3491-42F5-8C9D-40DBD135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FB4A3-9AD4-45E7-BFFF-7A50F888F7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66FDB6-7F8B-467F-B363-839EBC91F3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FA0B4-9E65-49E0-9278-05FDD3EE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A46239-93EC-423C-8BC5-17AFE810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90D87-B36B-4350-830D-0F1D7427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6D47EA-1ABE-4389-A518-459B3FBF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636C16-580B-421B-A60F-21C02A74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D1514E-AE86-45F6-B24C-50E560F8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99D17D-309C-4D64-B4F3-9C00431B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D1554-7815-499D-B302-3F5A3C10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8C7033-7E2E-4586-847A-BB5942B0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20BD67-FF99-4A94-B29C-33CF6082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9EE75E-2985-4E4D-9E36-18FB00C1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2DC2-DFEE-4912-A9C7-C63E58D0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86EC1-F61F-4D8C-922B-1DB239840C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5AF54C-A7E5-4145-A3B5-E5B457F57D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11B33A-DD16-427C-B6DC-0F5E3A90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A487B5-6C93-4058-8189-EF87C77B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AC5E8B-01D7-4F07-BC4E-AE7C3AB7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1216FD-FBC7-4E0C-992B-8A4C5B75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F3A4DA-1627-4F68-828E-0E7CC6AB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A55F87-718C-4974-A6B3-EF93038E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B6DBCB-78E1-49CA-90E8-1EC21028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0EDF86-1C8D-42B4-B610-EF2960E1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0C7E-FBB3-4459-8EBF-6EBDF06F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DA2430-3E4A-4C2E-86F1-D40CCB11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22E88C-A7F3-490F-9182-FF559145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124408-0109-4B6F-B750-B97D42E1E1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4EED1-029B-4415-BECB-1343F6FCD1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10F32-D16A-42FF-B125-657AAE20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1ED5D-9D0F-4021-900C-EBC8A5D1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93D34-7601-4EBD-BC60-373D4686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CF5DF-84D5-418B-9EA3-1FA219CA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A0D60-1A6F-468C-AC11-A6D4828C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44179-C766-4D38-8D34-838371B5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B65FD-B96E-45D7-9859-97D2EC04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BCCD6-C86B-491C-8CC4-66D0FB04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F3343-7C49-4AD4-AF96-22A7C835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8AE31-081C-4C2B-9394-0EE4DA01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4B6DF-E79D-4046-9745-7D35AA0A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9107F-8BA6-428C-9550-4849CF5010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0D2EB-BB1E-4AAC-BB8F-CF409D06A7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74C2A-534E-40A8-85B6-A5E1EAAC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18F1F4-4191-4090-A781-F6330B5B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D22FE7-343B-4793-895C-992B5C6A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179BC-1A3E-46C7-BF07-E68AAA8D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9B49A-CABF-4BCA-9523-DE74F9C9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E7FADA-240A-46D9-92F8-5DD1B761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CFA79-95A7-4153-A737-41C69675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4FBF8B-2403-4661-B599-417F7240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AC6297-5FFC-4F84-8B54-E16D6CDA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55450C-E545-4687-AFBE-B06268A6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2A88C4-6DD6-4405-9C5C-9E4C4682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C6158B-6A96-4167-A0F7-A7ED87F51D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E498BD-B0F4-44E7-B90D-235001D716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1EB4EB-7A87-4C37-970E-89F3F744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87B197-4FFC-4DCB-8EA6-A0A5F1A4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891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891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891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891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891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891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891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E1A6-A4A9-41D7-AF65-E0AF092E305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BDED-C22C-4E4A-991E-429E19EACF1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8644-2405-4E69-82C3-9C8C2F04F8A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0736-AB24-4560-9CC6-0F01DFC1B3D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F367-7FF8-4361-B688-4ACF1CB2F9D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E636-0688-469B-A7E8-0588D61FA60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EC07-699A-4640-BD69-7D36E784BC3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E6DF-70F2-42F4-A07D-179E12BCDA3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8CE0-E268-4267-AD57-80A33A915C7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6FA0-5818-493A-8077-6C364BC8E72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CED6-4D32-4690-8D19-7CF7C608391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5AD2-9D4E-4881-8493-89C8B7971D0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9E65-6836-4210-837E-7A720CFC4DA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D425-AC32-481C-80D8-79472A6F4CE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7FEB-541E-4FF4-B255-ADCB4C01940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17EF-B943-44CC-8F87-1C20066C79A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636F-EB1C-4B85-AF22-E4211599DAB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1013-2325-4EFE-BEFA-4E5EB2A871F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0F5C-BFA3-40C0-9AA0-60C0713184F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70F1-5940-416D-8114-56D8EBE1D76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66A4-8A16-43F3-9C90-6E6AA75EBC9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2322-4D11-4581-B363-8A2AC238651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1E74-0F35-4B20-A221-8F6012C5A61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8668-9B91-4473-9E26-F904B1792F2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4DBB-DE23-4398-97CC-F848BDF9450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972F-E3AB-460A-A72D-7BA313580CD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BC73-5113-4F62-B816-5584C6DC40A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3B3D-E3D7-4AE8-B105-7C8FE9D2F5D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E5D5-26E0-4F41-8114-4A01BFB9FDE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1F4D-E520-4E0C-9ED7-8A562D7AE62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993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993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993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994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994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994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994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20AE-1ADB-4EB5-9D6E-A329CD1263F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59DC-4692-4E91-A371-B44CB7E933C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3F89-DD09-4817-8FF6-160178C8CBA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E50B-C495-4406-A3F8-7914CBED94C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5C2C-03D4-4E7A-AFEB-9524CD4A83E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908F-1DEE-42C9-B559-8D65E9A5699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33793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33794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92360" y="54936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法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644400" y="1557360"/>
            <a:ext cx="75279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以整数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个数除以分数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混合运算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TextBox 2"/>
          <p:cNvSpPr/>
          <p:nvPr/>
        </p:nvSpPr>
        <p:spPr>
          <a:xfrm>
            <a:off x="743040" y="22147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明平均每小时走多少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2" name="Rectangle 2"/>
          <p:cNvSpPr/>
          <p:nvPr/>
        </p:nvSpPr>
        <p:spPr>
          <a:xfrm>
            <a:off x="4038480" y="3057480"/>
            <a:ext cx="4896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为什么要把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平均分成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份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3" name="Rectangle 2"/>
          <p:cNvSpPr/>
          <p:nvPr/>
        </p:nvSpPr>
        <p:spPr>
          <a:xfrm>
            <a:off x="4824360" y="3519360"/>
            <a:ext cx="4572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是怎么想到要补充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份的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4" name="Rectangle 2"/>
          <p:cNvSpPr/>
          <p:nvPr/>
        </p:nvSpPr>
        <p:spPr>
          <a:xfrm>
            <a:off x="4824360" y="4162320"/>
            <a:ext cx="4572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部分表示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5" name="Rectangle 2"/>
          <p:cNvSpPr/>
          <p:nvPr/>
        </p:nvSpPr>
        <p:spPr>
          <a:xfrm>
            <a:off x="4824360" y="4614840"/>
            <a:ext cx="4572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能用算式表示出所画的意思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6" name="Rectangle 2"/>
          <p:cNvSpPr/>
          <p:nvPr/>
        </p:nvSpPr>
        <p:spPr>
          <a:xfrm>
            <a:off x="4824360" y="4960800"/>
            <a:ext cx="48294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结合线段图，说说你是怎么计算的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17" name="组合 27655"/>
          <p:cNvGrpSpPr/>
          <p:nvPr/>
        </p:nvGrpSpPr>
        <p:grpSpPr>
          <a:xfrm>
            <a:off x="684360" y="2881440"/>
            <a:ext cx="3249360" cy="2132640"/>
            <a:chOff x="684360" y="2881440"/>
            <a:chExt cx="3249360" cy="2132640"/>
          </a:xfrm>
        </p:grpSpPr>
        <p:grpSp>
          <p:nvGrpSpPr>
            <p:cNvPr id="1818" name="组合 27656"/>
            <p:cNvGrpSpPr/>
            <p:nvPr/>
          </p:nvGrpSpPr>
          <p:grpSpPr>
            <a:xfrm>
              <a:off x="693360" y="4024440"/>
              <a:ext cx="3239640" cy="81000"/>
              <a:chOff x="693360" y="4024440"/>
              <a:chExt cx="3239640" cy="81000"/>
            </a:xfrm>
          </p:grpSpPr>
          <p:sp>
            <p:nvSpPr>
              <p:cNvPr id="1819" name="直接连接符 27657"/>
              <p:cNvSpPr/>
              <p:nvPr/>
            </p:nvSpPr>
            <p:spPr>
              <a:xfrm>
                <a:off x="693360" y="4033800"/>
                <a:ext cx="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820" name="组合 27658"/>
              <p:cNvGrpSpPr/>
              <p:nvPr/>
            </p:nvGrpSpPr>
            <p:grpSpPr>
              <a:xfrm>
                <a:off x="1769400" y="4024440"/>
                <a:ext cx="2163600" cy="81000"/>
                <a:chOff x="1769400" y="4024440"/>
                <a:chExt cx="2163600" cy="81000"/>
              </a:xfrm>
            </p:grpSpPr>
            <p:sp>
              <p:nvSpPr>
                <p:cNvPr id="1821" name="直接连接符 27659"/>
                <p:cNvSpPr/>
                <p:nvPr/>
              </p:nvSpPr>
              <p:spPr>
                <a:xfrm>
                  <a:off x="3933000" y="4033800"/>
                  <a:ext cx="0" cy="71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22" name="组合 27660"/>
                <p:cNvGrpSpPr/>
                <p:nvPr/>
              </p:nvGrpSpPr>
              <p:grpSpPr>
                <a:xfrm>
                  <a:off x="1769400" y="4024440"/>
                  <a:ext cx="1083960" cy="71280"/>
                  <a:chOff x="1769400" y="4024440"/>
                  <a:chExt cx="1083960" cy="71280"/>
                </a:xfrm>
              </p:grpSpPr>
              <p:sp>
                <p:nvSpPr>
                  <p:cNvPr id="1823" name="直接连接符 27661"/>
                  <p:cNvSpPr/>
                  <p:nvPr/>
                </p:nvSpPr>
                <p:spPr>
                  <a:xfrm>
                    <a:off x="2853360" y="40244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24" name="直接连接符 27662"/>
                  <p:cNvSpPr/>
                  <p:nvPr/>
                </p:nvSpPr>
                <p:spPr>
                  <a:xfrm>
                    <a:off x="1769400" y="40244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25" name="组合 27663"/>
            <p:cNvGrpSpPr/>
            <p:nvPr/>
          </p:nvGrpSpPr>
          <p:grpSpPr>
            <a:xfrm>
              <a:off x="684360" y="2881440"/>
              <a:ext cx="3249360" cy="2132640"/>
              <a:chOff x="684360" y="2881440"/>
              <a:chExt cx="3249360" cy="2132640"/>
            </a:xfrm>
          </p:grpSpPr>
          <p:sp>
            <p:nvSpPr>
              <p:cNvPr id="1826" name="左大括号 27664"/>
              <p:cNvSpPr/>
              <p:nvPr/>
            </p:nvSpPr>
            <p:spPr>
              <a:xfrm rot="16200000">
                <a:off x="1703160" y="3112560"/>
                <a:ext cx="142920" cy="215928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56160 h 2159280"/>
                  <a:gd name="textAreaBottom" fmla="*/ 2103120 h 215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27" name="直接连接符 27665"/>
              <p:cNvSpPr/>
              <p:nvPr/>
            </p:nvSpPr>
            <p:spPr>
              <a:xfrm>
                <a:off x="695160" y="4095720"/>
                <a:ext cx="3238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28" name="左大括号 27666"/>
              <p:cNvSpPr/>
              <p:nvPr/>
            </p:nvSpPr>
            <p:spPr>
              <a:xfrm flipV="1" rot="5400000">
                <a:off x="1703160" y="2829240"/>
                <a:ext cx="142920" cy="215928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56160 h 2159280"/>
                  <a:gd name="textAreaBottom" fmla="*/ 2103120 h 215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29" name="矩形 27667"/>
              <p:cNvSpPr/>
              <p:nvPr/>
            </p:nvSpPr>
            <p:spPr>
              <a:xfrm>
                <a:off x="1492560" y="4187880"/>
                <a:ext cx="612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km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830" name="组合 27668"/>
              <p:cNvGrpSpPr/>
              <p:nvPr/>
            </p:nvGrpSpPr>
            <p:grpSpPr>
              <a:xfrm>
                <a:off x="1487520" y="3232080"/>
                <a:ext cx="511200" cy="726120"/>
                <a:chOff x="1487520" y="3232080"/>
                <a:chExt cx="511200" cy="726120"/>
              </a:xfrm>
            </p:grpSpPr>
            <p:sp>
              <p:nvSpPr>
                <p:cNvPr id="1831" name="文本框 27669"/>
                <p:cNvSpPr/>
                <p:nvPr/>
              </p:nvSpPr>
              <p:spPr>
                <a:xfrm>
                  <a:off x="1494000" y="353520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32" name="文本框 27670"/>
                <p:cNvSpPr/>
                <p:nvPr/>
              </p:nvSpPr>
              <p:spPr>
                <a:xfrm>
                  <a:off x="1487520" y="323208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33" name="直接连接符 27671"/>
                <p:cNvSpPr/>
                <p:nvPr/>
              </p:nvSpPr>
              <p:spPr>
                <a:xfrm>
                  <a:off x="1503360" y="361800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834" name="文本框 27672"/>
              <p:cNvSpPr/>
              <p:nvPr/>
            </p:nvSpPr>
            <p:spPr>
              <a:xfrm>
                <a:off x="1766880" y="3376800"/>
                <a:ext cx="7192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8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小时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5" name="左大括号 27673"/>
              <p:cNvSpPr/>
              <p:nvPr/>
            </p:nvSpPr>
            <p:spPr>
              <a:xfrm rot="16200000">
                <a:off x="2242800" y="2980800"/>
                <a:ext cx="142920" cy="323856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84240 h 3238560"/>
                  <a:gd name="textAreaBottom" fmla="*/ 3154320 h 323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6" name="文本框 27674"/>
              <p:cNvSpPr/>
              <p:nvPr/>
            </p:nvSpPr>
            <p:spPr>
              <a:xfrm>
                <a:off x="1774800" y="4591080"/>
                <a:ext cx="1798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8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走多少</a:t>
                </a: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km</a:t>
                </a:r>
                <a:r>
                  <a:rPr b="0" i="1" lang="zh-CN" sz="18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？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7" name="左大括号 27675"/>
              <p:cNvSpPr/>
              <p:nvPr/>
            </p:nvSpPr>
            <p:spPr>
              <a:xfrm flipV="1" rot="5400000">
                <a:off x="2232000" y="1673280"/>
                <a:ext cx="154080" cy="3249360"/>
              </a:xfrm>
              <a:custGeom>
                <a:avLst/>
                <a:gdLst>
                  <a:gd name="textAreaLeft" fmla="*/ 98640 w 154080"/>
                  <a:gd name="textAreaRight" fmla="*/ 154440 w 154080"/>
                  <a:gd name="textAreaTop" fmla="*/ 84600 h 3249360"/>
                  <a:gd name="textAreaBottom" fmla="*/ 3164760 h 324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8" name="文本框 27676"/>
              <p:cNvSpPr/>
              <p:nvPr/>
            </p:nvSpPr>
            <p:spPr>
              <a:xfrm>
                <a:off x="1919160" y="2881440"/>
                <a:ext cx="1224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zh-CN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小时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839" name="组合 27677"/>
          <p:cNvGrpSpPr/>
          <p:nvPr/>
        </p:nvGrpSpPr>
        <p:grpSpPr>
          <a:xfrm>
            <a:off x="4371840" y="1916280"/>
            <a:ext cx="4953240" cy="1159560"/>
            <a:chOff x="4371840" y="1916280"/>
            <a:chExt cx="4953240" cy="1159560"/>
          </a:xfrm>
        </p:grpSpPr>
        <p:grpSp>
          <p:nvGrpSpPr>
            <p:cNvPr id="1840" name="组合 27678"/>
            <p:cNvGrpSpPr/>
            <p:nvPr/>
          </p:nvGrpSpPr>
          <p:grpSpPr>
            <a:xfrm>
              <a:off x="4371840" y="1989000"/>
              <a:ext cx="4953240" cy="835200"/>
              <a:chOff x="4371840" y="1989000"/>
              <a:chExt cx="4953240" cy="835200"/>
            </a:xfrm>
          </p:grpSpPr>
          <p:grpSp>
            <p:nvGrpSpPr>
              <p:cNvPr id="1841" name="组合 27679"/>
              <p:cNvGrpSpPr/>
              <p:nvPr/>
            </p:nvGrpSpPr>
            <p:grpSpPr>
              <a:xfrm>
                <a:off x="4832280" y="2009160"/>
                <a:ext cx="511200" cy="815040"/>
                <a:chOff x="4832280" y="2009160"/>
                <a:chExt cx="511200" cy="815040"/>
              </a:xfrm>
            </p:grpSpPr>
            <p:sp>
              <p:nvSpPr>
                <p:cNvPr id="1842" name="文本框 27680"/>
                <p:cNvSpPr/>
                <p:nvPr/>
              </p:nvSpPr>
              <p:spPr>
                <a:xfrm>
                  <a:off x="4838760" y="23644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43" name="文本框 27681"/>
                <p:cNvSpPr/>
                <p:nvPr/>
              </p:nvSpPr>
              <p:spPr>
                <a:xfrm>
                  <a:off x="4832280" y="20091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44" name="直接连接符 27682"/>
                <p:cNvSpPr/>
                <p:nvPr/>
              </p:nvSpPr>
              <p:spPr>
                <a:xfrm>
                  <a:off x="4848120" y="242820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845" name="文本框 27683"/>
              <p:cNvSpPr/>
              <p:nvPr/>
            </p:nvSpPr>
            <p:spPr>
              <a:xfrm>
                <a:off x="4371840" y="2179080"/>
                <a:ext cx="495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÷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 ×    ×3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×  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（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宋体"/>
                  </a:rPr>
                  <a:t>km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）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846" name="组合 27684"/>
              <p:cNvGrpSpPr/>
              <p:nvPr/>
            </p:nvGrpSpPr>
            <p:grpSpPr>
              <a:xfrm>
                <a:off x="7157880" y="1998000"/>
                <a:ext cx="511200" cy="815040"/>
                <a:chOff x="7157880" y="1998000"/>
                <a:chExt cx="511200" cy="815040"/>
              </a:xfrm>
            </p:grpSpPr>
            <p:sp>
              <p:nvSpPr>
                <p:cNvPr id="1847" name="文本框 27685"/>
                <p:cNvSpPr/>
                <p:nvPr/>
              </p:nvSpPr>
              <p:spPr>
                <a:xfrm>
                  <a:off x="7164360" y="23533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48" name="文本框 27686"/>
                <p:cNvSpPr/>
                <p:nvPr/>
              </p:nvSpPr>
              <p:spPr>
                <a:xfrm>
                  <a:off x="7157880" y="19980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49" name="直接连接符 27687"/>
                <p:cNvSpPr/>
                <p:nvPr/>
              </p:nvSpPr>
              <p:spPr>
                <a:xfrm>
                  <a:off x="7173720" y="24170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850" name="组合 27688"/>
              <p:cNvGrpSpPr/>
              <p:nvPr/>
            </p:nvGrpSpPr>
            <p:grpSpPr>
              <a:xfrm>
                <a:off x="5797440" y="1989000"/>
                <a:ext cx="511200" cy="815040"/>
                <a:chOff x="5797440" y="1989000"/>
                <a:chExt cx="511200" cy="815040"/>
              </a:xfrm>
            </p:grpSpPr>
            <p:sp>
              <p:nvSpPr>
                <p:cNvPr id="1851" name="文本框 27689"/>
                <p:cNvSpPr/>
                <p:nvPr/>
              </p:nvSpPr>
              <p:spPr>
                <a:xfrm>
                  <a:off x="5803920" y="23443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52" name="文本框 27690"/>
                <p:cNvSpPr/>
                <p:nvPr/>
              </p:nvSpPr>
              <p:spPr>
                <a:xfrm>
                  <a:off x="5797440" y="19890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53" name="直接连接符 27691"/>
                <p:cNvSpPr/>
                <p:nvPr/>
              </p:nvSpPr>
              <p:spPr>
                <a:xfrm>
                  <a:off x="5813280" y="24080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1854" name="组合 27692"/>
            <p:cNvGrpSpPr/>
            <p:nvPr/>
          </p:nvGrpSpPr>
          <p:grpSpPr>
            <a:xfrm>
              <a:off x="6680160" y="1916280"/>
              <a:ext cx="773280" cy="1159560"/>
              <a:chOff x="6680160" y="1916280"/>
              <a:chExt cx="773280" cy="1159560"/>
            </a:xfrm>
          </p:grpSpPr>
          <p:sp>
            <p:nvSpPr>
              <p:cNvPr id="1855" name="直接连接符 27693"/>
              <p:cNvSpPr/>
              <p:nvPr/>
            </p:nvSpPr>
            <p:spPr>
              <a:xfrm>
                <a:off x="6751440" y="2295360"/>
                <a:ext cx="217800" cy="215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6" name="直接连接符 27694"/>
              <p:cNvSpPr/>
              <p:nvPr/>
            </p:nvSpPr>
            <p:spPr>
              <a:xfrm>
                <a:off x="7226280" y="2511360"/>
                <a:ext cx="217440" cy="215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7" name="文本框 27695"/>
              <p:cNvSpPr/>
              <p:nvPr/>
            </p:nvSpPr>
            <p:spPr>
              <a:xfrm>
                <a:off x="6680160" y="1916280"/>
                <a:ext cx="28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8" name="文本框 27696"/>
              <p:cNvSpPr/>
              <p:nvPr/>
            </p:nvSpPr>
            <p:spPr>
              <a:xfrm>
                <a:off x="7164360" y="2616120"/>
                <a:ext cx="28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859" name="TextBox 50"/>
          <p:cNvSpPr/>
          <p:nvPr/>
        </p:nvSpPr>
        <p:spPr>
          <a:xfrm>
            <a:off x="396720" y="1413000"/>
            <a:ext cx="576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自主操作，深入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0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个数除以分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1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862" name="图片 28674" descr=""/>
          <p:cNvPicPr/>
          <p:nvPr/>
        </p:nvPicPr>
        <p:blipFill>
          <a:blip r:embed="rId2"/>
          <a:stretch/>
        </p:blipFill>
        <p:spPr>
          <a:xfrm>
            <a:off x="357120" y="276120"/>
            <a:ext cx="8372520" cy="626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Rectangle 2"/>
          <p:cNvSpPr/>
          <p:nvPr/>
        </p:nvSpPr>
        <p:spPr>
          <a:xfrm>
            <a:off x="500040" y="4087800"/>
            <a:ext cx="8001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红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时走多少千米呢？根据信息和问题，画出线段图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4" name="Rectangle 2"/>
          <p:cNvSpPr/>
          <p:nvPr/>
        </p:nvSpPr>
        <p:spPr>
          <a:xfrm>
            <a:off x="1285920" y="4441680"/>
            <a:ext cx="678636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根据线段图，列式并计算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5" name="Rectangle 2"/>
          <p:cNvSpPr/>
          <p:nvPr/>
        </p:nvSpPr>
        <p:spPr>
          <a:xfrm>
            <a:off x="1285920" y="5354640"/>
            <a:ext cx="6786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请你比较，谁走得快些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66" name="图片 29700" descr="32"/>
          <p:cNvPicPr/>
          <p:nvPr/>
        </p:nvPicPr>
        <p:blipFill>
          <a:blip r:embed="rId1"/>
          <a:stretch/>
        </p:blipFill>
        <p:spPr>
          <a:xfrm>
            <a:off x="1314360" y="2131920"/>
            <a:ext cx="3346560" cy="2160720"/>
          </a:xfrm>
          <a:prstGeom prst="rect">
            <a:avLst/>
          </a:prstGeom>
          <a:ln w="0">
            <a:noFill/>
          </a:ln>
        </p:spPr>
      </p:pic>
      <p:grpSp>
        <p:nvGrpSpPr>
          <p:cNvPr id="1867" name="组合 29701"/>
          <p:cNvGrpSpPr/>
          <p:nvPr/>
        </p:nvGrpSpPr>
        <p:grpSpPr>
          <a:xfrm>
            <a:off x="1274760" y="3170160"/>
            <a:ext cx="8399520" cy="3425760"/>
            <a:chOff x="1274760" y="3170160"/>
            <a:chExt cx="8399520" cy="3425760"/>
          </a:xfrm>
        </p:grpSpPr>
        <p:sp>
          <p:nvSpPr>
            <p:cNvPr id="1868" name="Rectangle 2"/>
            <p:cNvSpPr/>
            <p:nvPr/>
          </p:nvSpPr>
          <p:spPr>
            <a:xfrm>
              <a:off x="1274760" y="5886360"/>
              <a:ext cx="7572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5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观察上面两个算式的计算，你发现了什么？（一个数除以分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数，等于乘这个分数的倒数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69" name="组合 29703"/>
            <p:cNvGrpSpPr/>
            <p:nvPr/>
          </p:nvGrpSpPr>
          <p:grpSpPr>
            <a:xfrm>
              <a:off x="4721040" y="3170160"/>
              <a:ext cx="4953240" cy="1159560"/>
              <a:chOff x="4721040" y="3170160"/>
              <a:chExt cx="4953240" cy="1159560"/>
            </a:xfrm>
          </p:grpSpPr>
          <p:grpSp>
            <p:nvGrpSpPr>
              <p:cNvPr id="1870" name="组合 29704"/>
              <p:cNvGrpSpPr/>
              <p:nvPr/>
            </p:nvGrpSpPr>
            <p:grpSpPr>
              <a:xfrm>
                <a:off x="4721040" y="3242880"/>
                <a:ext cx="4953240" cy="835200"/>
                <a:chOff x="4721040" y="3242880"/>
                <a:chExt cx="4953240" cy="835200"/>
              </a:xfrm>
            </p:grpSpPr>
            <p:grpSp>
              <p:nvGrpSpPr>
                <p:cNvPr id="1871" name="组合 29705"/>
                <p:cNvGrpSpPr/>
                <p:nvPr/>
              </p:nvGrpSpPr>
              <p:grpSpPr>
                <a:xfrm>
                  <a:off x="5181480" y="3263040"/>
                  <a:ext cx="511200" cy="815040"/>
                  <a:chOff x="5181480" y="3263040"/>
                  <a:chExt cx="511200" cy="815040"/>
                </a:xfrm>
              </p:grpSpPr>
              <p:sp>
                <p:nvSpPr>
                  <p:cNvPr id="1872" name="文本框 29706"/>
                  <p:cNvSpPr/>
                  <p:nvPr/>
                </p:nvSpPr>
                <p:spPr>
                  <a:xfrm>
                    <a:off x="5187960" y="36183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73" name="文本框 29707"/>
                  <p:cNvSpPr/>
                  <p:nvPr/>
                </p:nvSpPr>
                <p:spPr>
                  <a:xfrm>
                    <a:off x="5181480" y="32630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74" name="直接连接符 29708"/>
                  <p:cNvSpPr/>
                  <p:nvPr/>
                </p:nvSpPr>
                <p:spPr>
                  <a:xfrm>
                    <a:off x="5197320" y="368208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875" name="文本框 29709"/>
                <p:cNvSpPr/>
                <p:nvPr/>
              </p:nvSpPr>
              <p:spPr>
                <a:xfrm>
                  <a:off x="4721040" y="3432960"/>
                  <a:ext cx="4953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÷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 ×    ×3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×  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（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宋体"/>
                    </a:rPr>
                    <a:t>km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）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 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76" name="组合 29710"/>
                <p:cNvGrpSpPr/>
                <p:nvPr/>
              </p:nvGrpSpPr>
              <p:grpSpPr>
                <a:xfrm>
                  <a:off x="7507080" y="3251880"/>
                  <a:ext cx="511200" cy="815040"/>
                  <a:chOff x="7507080" y="3251880"/>
                  <a:chExt cx="511200" cy="815040"/>
                </a:xfrm>
              </p:grpSpPr>
              <p:sp>
                <p:nvSpPr>
                  <p:cNvPr id="1877" name="文本框 29711"/>
                  <p:cNvSpPr/>
                  <p:nvPr/>
                </p:nvSpPr>
                <p:spPr>
                  <a:xfrm>
                    <a:off x="7513560" y="360720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78" name="文本框 29712"/>
                  <p:cNvSpPr/>
                  <p:nvPr/>
                </p:nvSpPr>
                <p:spPr>
                  <a:xfrm>
                    <a:off x="7507080" y="32518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79" name="直接连接符 29713"/>
                  <p:cNvSpPr/>
                  <p:nvPr/>
                </p:nvSpPr>
                <p:spPr>
                  <a:xfrm>
                    <a:off x="7522920" y="367092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880" name="组合 29714"/>
                <p:cNvGrpSpPr/>
                <p:nvPr/>
              </p:nvGrpSpPr>
              <p:grpSpPr>
                <a:xfrm>
                  <a:off x="6146640" y="3242880"/>
                  <a:ext cx="511200" cy="815040"/>
                  <a:chOff x="6146640" y="3242880"/>
                  <a:chExt cx="511200" cy="815040"/>
                </a:xfrm>
              </p:grpSpPr>
              <p:sp>
                <p:nvSpPr>
                  <p:cNvPr id="1881" name="文本框 29715"/>
                  <p:cNvSpPr/>
                  <p:nvPr/>
                </p:nvSpPr>
                <p:spPr>
                  <a:xfrm>
                    <a:off x="6153120" y="359820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82" name="文本框 29716"/>
                  <p:cNvSpPr/>
                  <p:nvPr/>
                </p:nvSpPr>
                <p:spPr>
                  <a:xfrm>
                    <a:off x="6146640" y="32428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83" name="直接连接符 29717"/>
                  <p:cNvSpPr/>
                  <p:nvPr/>
                </p:nvSpPr>
                <p:spPr>
                  <a:xfrm>
                    <a:off x="6162480" y="366192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4" name="组合 29718"/>
              <p:cNvGrpSpPr/>
              <p:nvPr/>
            </p:nvGrpSpPr>
            <p:grpSpPr>
              <a:xfrm>
                <a:off x="7029360" y="3170160"/>
                <a:ext cx="773280" cy="1159560"/>
                <a:chOff x="7029360" y="3170160"/>
                <a:chExt cx="773280" cy="1159560"/>
              </a:xfrm>
            </p:grpSpPr>
            <p:sp>
              <p:nvSpPr>
                <p:cNvPr id="1885" name="直接连接符 29719"/>
                <p:cNvSpPr/>
                <p:nvPr/>
              </p:nvSpPr>
              <p:spPr>
                <a:xfrm>
                  <a:off x="7100640" y="3549240"/>
                  <a:ext cx="217800" cy="215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86" name="直接连接符 29720"/>
                <p:cNvSpPr/>
                <p:nvPr/>
              </p:nvSpPr>
              <p:spPr>
                <a:xfrm>
                  <a:off x="7575480" y="3765240"/>
                  <a:ext cx="217440" cy="21528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87" name="文本框 29721"/>
                <p:cNvSpPr/>
                <p:nvPr/>
              </p:nvSpPr>
              <p:spPr>
                <a:xfrm>
                  <a:off x="7029360" y="3170160"/>
                  <a:ext cx="289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88" name="文本框 29722"/>
                <p:cNvSpPr/>
                <p:nvPr/>
              </p:nvSpPr>
              <p:spPr>
                <a:xfrm>
                  <a:off x="7513560" y="3870000"/>
                  <a:ext cx="289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1889" name="组合 29723"/>
          <p:cNvGrpSpPr/>
          <p:nvPr/>
        </p:nvGrpSpPr>
        <p:grpSpPr>
          <a:xfrm>
            <a:off x="4788000" y="1989000"/>
            <a:ext cx="3727440" cy="1304280"/>
            <a:chOff x="4788000" y="1989000"/>
            <a:chExt cx="3727440" cy="1304280"/>
          </a:xfrm>
        </p:grpSpPr>
        <p:grpSp>
          <p:nvGrpSpPr>
            <p:cNvPr id="1890" name="组合 29724"/>
            <p:cNvGrpSpPr/>
            <p:nvPr/>
          </p:nvGrpSpPr>
          <p:grpSpPr>
            <a:xfrm>
              <a:off x="4788000" y="2244600"/>
              <a:ext cx="3727440" cy="822960"/>
              <a:chOff x="4788000" y="2244600"/>
              <a:chExt cx="3727440" cy="822960"/>
            </a:xfrm>
          </p:grpSpPr>
          <p:grpSp>
            <p:nvGrpSpPr>
              <p:cNvPr id="1891" name="组合 29725"/>
              <p:cNvGrpSpPr/>
              <p:nvPr/>
            </p:nvGrpSpPr>
            <p:grpSpPr>
              <a:xfrm>
                <a:off x="4788000" y="2244600"/>
                <a:ext cx="3727440" cy="822960"/>
                <a:chOff x="4788000" y="2244600"/>
                <a:chExt cx="3727440" cy="822960"/>
              </a:xfrm>
            </p:grpSpPr>
            <p:sp>
              <p:nvSpPr>
                <p:cNvPr id="1892" name="Rectangle 49"/>
                <p:cNvSpPr/>
                <p:nvPr/>
              </p:nvSpPr>
              <p:spPr>
                <a:xfrm>
                  <a:off x="5073840" y="2347200"/>
                  <a:ext cx="3441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÷  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×   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（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宋体"/>
                    </a:rPr>
                    <a:t>km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）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 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93" name="组合 29727"/>
                <p:cNvGrpSpPr/>
                <p:nvPr/>
              </p:nvGrpSpPr>
              <p:grpSpPr>
                <a:xfrm>
                  <a:off x="4788000" y="2244600"/>
                  <a:ext cx="1082520" cy="822960"/>
                  <a:chOff x="4788000" y="2244600"/>
                  <a:chExt cx="1082520" cy="822960"/>
                </a:xfrm>
              </p:grpSpPr>
              <p:grpSp>
                <p:nvGrpSpPr>
                  <p:cNvPr id="1894" name="组合 29728"/>
                  <p:cNvGrpSpPr/>
                  <p:nvPr/>
                </p:nvGrpSpPr>
                <p:grpSpPr>
                  <a:xfrm>
                    <a:off x="5365800" y="2244600"/>
                    <a:ext cx="504720" cy="797760"/>
                    <a:chOff x="5365800" y="2244600"/>
                    <a:chExt cx="504720" cy="797760"/>
                  </a:xfrm>
                </p:grpSpPr>
                <p:sp>
                  <p:nvSpPr>
                    <p:cNvPr id="1895" name="文本框 29729"/>
                    <p:cNvSpPr/>
                    <p:nvPr/>
                  </p:nvSpPr>
                  <p:spPr>
                    <a:xfrm>
                      <a:off x="5365800" y="258264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2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96" name="文本框 29730"/>
                    <p:cNvSpPr/>
                    <p:nvPr/>
                  </p:nvSpPr>
                  <p:spPr>
                    <a:xfrm>
                      <a:off x="5448240" y="2244600"/>
                      <a:ext cx="360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5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97" name="直接连接符 29731"/>
                    <p:cNvSpPr/>
                    <p:nvPr/>
                  </p:nvSpPr>
                  <p:spPr>
                    <a:xfrm>
                      <a:off x="5464440" y="2663640"/>
                      <a:ext cx="2872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8" name="组合 29732"/>
                  <p:cNvGrpSpPr/>
                  <p:nvPr/>
                </p:nvGrpSpPr>
                <p:grpSpPr>
                  <a:xfrm>
                    <a:off x="4788000" y="2252520"/>
                    <a:ext cx="511200" cy="815040"/>
                    <a:chOff x="4788000" y="2252520"/>
                    <a:chExt cx="511200" cy="815040"/>
                  </a:xfrm>
                </p:grpSpPr>
                <p:sp>
                  <p:nvSpPr>
                    <p:cNvPr id="1899" name="文本框 29733"/>
                    <p:cNvSpPr/>
                    <p:nvPr/>
                  </p:nvSpPr>
                  <p:spPr>
                    <a:xfrm>
                      <a:off x="4794480" y="260784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6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900" name="文本框 29734"/>
                    <p:cNvSpPr/>
                    <p:nvPr/>
                  </p:nvSpPr>
                  <p:spPr>
                    <a:xfrm>
                      <a:off x="4788000" y="225252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5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901" name="直接连接符 29735"/>
                    <p:cNvSpPr/>
                    <p:nvPr/>
                  </p:nvSpPr>
                  <p:spPr>
                    <a:xfrm>
                      <a:off x="4803840" y="2671560"/>
                      <a:ext cx="28764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02" name="组合 29736"/>
                <p:cNvGrpSpPr/>
                <p:nvPr/>
              </p:nvGrpSpPr>
              <p:grpSpPr>
                <a:xfrm>
                  <a:off x="6010200" y="2247840"/>
                  <a:ext cx="511200" cy="815040"/>
                  <a:chOff x="6010200" y="2247840"/>
                  <a:chExt cx="511200" cy="815040"/>
                </a:xfrm>
              </p:grpSpPr>
              <p:sp>
                <p:nvSpPr>
                  <p:cNvPr id="1903" name="文本框 29737"/>
                  <p:cNvSpPr/>
                  <p:nvPr/>
                </p:nvSpPr>
                <p:spPr>
                  <a:xfrm>
                    <a:off x="6016680" y="26031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6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04" name="文本框 29738"/>
                  <p:cNvSpPr/>
                  <p:nvPr/>
                </p:nvSpPr>
                <p:spPr>
                  <a:xfrm>
                    <a:off x="6010200" y="22478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05" name="直接连接符 29739"/>
                  <p:cNvSpPr/>
                  <p:nvPr/>
                </p:nvSpPr>
                <p:spPr>
                  <a:xfrm>
                    <a:off x="6026040" y="266688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906" name="组合 29740"/>
                <p:cNvGrpSpPr/>
                <p:nvPr/>
              </p:nvGrpSpPr>
              <p:grpSpPr>
                <a:xfrm>
                  <a:off x="6526440" y="2249280"/>
                  <a:ext cx="586800" cy="815400"/>
                  <a:chOff x="6526440" y="2249280"/>
                  <a:chExt cx="586800" cy="815400"/>
                </a:xfrm>
              </p:grpSpPr>
              <p:sp>
                <p:nvSpPr>
                  <p:cNvPr id="1907" name="文本框 29741"/>
                  <p:cNvSpPr/>
                  <p:nvPr/>
                </p:nvSpPr>
                <p:spPr>
                  <a:xfrm>
                    <a:off x="6608520" y="26049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08" name="文本框 29742"/>
                  <p:cNvSpPr/>
                  <p:nvPr/>
                </p:nvSpPr>
                <p:spPr>
                  <a:xfrm>
                    <a:off x="6526440" y="2249280"/>
                    <a:ext cx="580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09" name="直接连接符 29743"/>
                  <p:cNvSpPr/>
                  <p:nvPr/>
                </p:nvSpPr>
                <p:spPr>
                  <a:xfrm>
                    <a:off x="6589440" y="26683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sp>
            <p:nvSpPr>
              <p:cNvPr id="1910" name="直接连接符 29744"/>
              <p:cNvSpPr/>
              <p:nvPr/>
            </p:nvSpPr>
            <p:spPr>
              <a:xfrm>
                <a:off x="6031080" y="2392200"/>
                <a:ext cx="288720" cy="216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11" name="直接连接符 29745"/>
              <p:cNvSpPr/>
              <p:nvPr/>
            </p:nvSpPr>
            <p:spPr>
              <a:xfrm>
                <a:off x="6626160" y="2757600"/>
                <a:ext cx="289080" cy="215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12" name="直接连接符 29746"/>
              <p:cNvSpPr/>
              <p:nvPr/>
            </p:nvSpPr>
            <p:spPr>
              <a:xfrm>
                <a:off x="6031080" y="2752560"/>
                <a:ext cx="288720" cy="216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13" name="直接连接符 29747"/>
              <p:cNvSpPr/>
              <p:nvPr/>
            </p:nvSpPr>
            <p:spPr>
              <a:xfrm>
                <a:off x="6607440" y="2392200"/>
                <a:ext cx="288720" cy="216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914" name="文本框 29748"/>
            <p:cNvSpPr/>
            <p:nvPr/>
          </p:nvSpPr>
          <p:spPr>
            <a:xfrm>
              <a:off x="5988240" y="1998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5" name="文本框 29749"/>
            <p:cNvSpPr/>
            <p:nvPr/>
          </p:nvSpPr>
          <p:spPr>
            <a:xfrm>
              <a:off x="6597720" y="1989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6" name="文本框 29750"/>
            <p:cNvSpPr/>
            <p:nvPr/>
          </p:nvSpPr>
          <p:spPr>
            <a:xfrm>
              <a:off x="6031080" y="2833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7" name="文本框 29751"/>
            <p:cNvSpPr/>
            <p:nvPr/>
          </p:nvSpPr>
          <p:spPr>
            <a:xfrm>
              <a:off x="6607440" y="2828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18" name="组合 29752"/>
          <p:cNvGrpSpPr/>
          <p:nvPr/>
        </p:nvGrpSpPr>
        <p:grpSpPr>
          <a:xfrm>
            <a:off x="1285920" y="4840200"/>
            <a:ext cx="7500960" cy="815400"/>
            <a:chOff x="1285920" y="4840200"/>
            <a:chExt cx="7500960" cy="815400"/>
          </a:xfrm>
        </p:grpSpPr>
        <p:sp>
          <p:nvSpPr>
            <p:cNvPr id="1919" name="Rectangle 2"/>
            <p:cNvSpPr/>
            <p:nvPr/>
          </p:nvSpPr>
          <p:spPr>
            <a:xfrm>
              <a:off x="1285920" y="4910040"/>
              <a:ext cx="75009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.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这一步你是怎样想的，结合线段图说一说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920" name="组合 29754"/>
            <p:cNvGrpSpPr/>
            <p:nvPr/>
          </p:nvGrpSpPr>
          <p:grpSpPr>
            <a:xfrm>
              <a:off x="2160720" y="4840200"/>
              <a:ext cx="586800" cy="815400"/>
              <a:chOff x="2160720" y="4840200"/>
              <a:chExt cx="586800" cy="815400"/>
            </a:xfrm>
          </p:grpSpPr>
          <p:sp>
            <p:nvSpPr>
              <p:cNvPr id="1921" name="文本框 29755"/>
              <p:cNvSpPr/>
              <p:nvPr/>
            </p:nvSpPr>
            <p:spPr>
              <a:xfrm>
                <a:off x="2242800" y="5195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22" name="文本框 29756"/>
              <p:cNvSpPr/>
              <p:nvPr/>
            </p:nvSpPr>
            <p:spPr>
              <a:xfrm>
                <a:off x="2160720" y="4840200"/>
                <a:ext cx="580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23" name="直接连接符 29757"/>
              <p:cNvSpPr/>
              <p:nvPr/>
            </p:nvSpPr>
            <p:spPr>
              <a:xfrm>
                <a:off x="2223720" y="52592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924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个数除以分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5" name="TextBox 50"/>
          <p:cNvSpPr/>
          <p:nvPr/>
        </p:nvSpPr>
        <p:spPr>
          <a:xfrm>
            <a:off x="396720" y="1413000"/>
            <a:ext cx="576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自主操作，深入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TextBox 50"/>
          <p:cNvSpPr/>
          <p:nvPr/>
        </p:nvSpPr>
        <p:spPr>
          <a:xfrm>
            <a:off x="395280" y="1413000"/>
            <a:ext cx="576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三）巩固练习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7" name="矩形 30722"/>
          <p:cNvSpPr/>
          <p:nvPr/>
        </p:nvSpPr>
        <p:spPr>
          <a:xfrm>
            <a:off x="1332000" y="2276640"/>
            <a:ext cx="60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计算下面各题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8" name="文本框 30723"/>
          <p:cNvSpPr/>
          <p:nvPr/>
        </p:nvSpPr>
        <p:spPr>
          <a:xfrm>
            <a:off x="5219640" y="2421000"/>
            <a:ext cx="279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29" name="组合 30724"/>
          <p:cNvGrpSpPr/>
          <p:nvPr/>
        </p:nvGrpSpPr>
        <p:grpSpPr>
          <a:xfrm>
            <a:off x="1636560" y="2760840"/>
            <a:ext cx="4141800" cy="824400"/>
            <a:chOff x="1636560" y="2760840"/>
            <a:chExt cx="4141800" cy="824400"/>
          </a:xfrm>
        </p:grpSpPr>
        <p:grpSp>
          <p:nvGrpSpPr>
            <p:cNvPr id="1930" name="组合 30725"/>
            <p:cNvGrpSpPr/>
            <p:nvPr/>
          </p:nvGrpSpPr>
          <p:grpSpPr>
            <a:xfrm>
              <a:off x="1636560" y="2760840"/>
              <a:ext cx="1782720" cy="815040"/>
              <a:chOff x="1636560" y="2760840"/>
              <a:chExt cx="1782720" cy="815040"/>
            </a:xfrm>
          </p:grpSpPr>
          <p:grpSp>
            <p:nvGrpSpPr>
              <p:cNvPr id="1931" name="组合 30726"/>
              <p:cNvGrpSpPr/>
              <p:nvPr/>
            </p:nvGrpSpPr>
            <p:grpSpPr>
              <a:xfrm>
                <a:off x="2338200" y="2760840"/>
                <a:ext cx="511200" cy="815040"/>
                <a:chOff x="2338200" y="2760840"/>
                <a:chExt cx="511200" cy="815040"/>
              </a:xfrm>
            </p:grpSpPr>
            <p:sp>
              <p:nvSpPr>
                <p:cNvPr id="1932" name="文本框 30727"/>
                <p:cNvSpPr/>
                <p:nvPr/>
              </p:nvSpPr>
              <p:spPr>
                <a:xfrm>
                  <a:off x="2344680" y="3116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9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33" name="文本框 30728"/>
                <p:cNvSpPr/>
                <p:nvPr/>
              </p:nvSpPr>
              <p:spPr>
                <a:xfrm>
                  <a:off x="2338200" y="2760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34" name="直接连接符 30729"/>
                <p:cNvSpPr/>
                <p:nvPr/>
              </p:nvSpPr>
              <p:spPr>
                <a:xfrm>
                  <a:off x="2354040" y="3179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935" name="文本框 30730"/>
              <p:cNvSpPr/>
              <p:nvPr/>
            </p:nvSpPr>
            <p:spPr>
              <a:xfrm>
                <a:off x="1636560" y="2938320"/>
                <a:ext cx="178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4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÷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936" name="组合 30731"/>
            <p:cNvGrpSpPr/>
            <p:nvPr/>
          </p:nvGrpSpPr>
          <p:grpSpPr>
            <a:xfrm>
              <a:off x="3613320" y="2762280"/>
              <a:ext cx="1029600" cy="822960"/>
              <a:chOff x="3613320" y="2762280"/>
              <a:chExt cx="1029600" cy="822960"/>
            </a:xfrm>
          </p:grpSpPr>
          <p:grpSp>
            <p:nvGrpSpPr>
              <p:cNvPr id="1937" name="组合 30732"/>
              <p:cNvGrpSpPr/>
              <p:nvPr/>
            </p:nvGrpSpPr>
            <p:grpSpPr>
              <a:xfrm>
                <a:off x="3613320" y="2762280"/>
                <a:ext cx="1029600" cy="822960"/>
                <a:chOff x="3613320" y="2762280"/>
                <a:chExt cx="1029600" cy="822960"/>
              </a:xfrm>
            </p:grpSpPr>
            <p:sp>
              <p:nvSpPr>
                <p:cNvPr id="1938" name="文本框 30733"/>
                <p:cNvSpPr/>
                <p:nvPr/>
              </p:nvSpPr>
              <p:spPr>
                <a:xfrm>
                  <a:off x="3613320" y="3125520"/>
                  <a:ext cx="1020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（   ）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39" name="文本框 30734"/>
                <p:cNvSpPr/>
                <p:nvPr/>
              </p:nvSpPr>
              <p:spPr>
                <a:xfrm>
                  <a:off x="3622320" y="2762280"/>
                  <a:ext cx="1020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（   ）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940" name="直接连接符 30735"/>
              <p:cNvSpPr/>
              <p:nvPr/>
            </p:nvSpPr>
            <p:spPr>
              <a:xfrm>
                <a:off x="3857760" y="3189240"/>
                <a:ext cx="43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941" name="椭圆 30736"/>
            <p:cNvSpPr/>
            <p:nvPr/>
          </p:nvSpPr>
          <p:spPr>
            <a:xfrm>
              <a:off x="3328920" y="2997360"/>
              <a:ext cx="360360" cy="360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42" name="文本框 30737"/>
            <p:cNvSpPr/>
            <p:nvPr/>
          </p:nvSpPr>
          <p:spPr>
            <a:xfrm>
              <a:off x="4265640" y="292428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（  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943" name="文本框 30738"/>
          <p:cNvSpPr/>
          <p:nvPr/>
        </p:nvSpPr>
        <p:spPr>
          <a:xfrm>
            <a:off x="3286080" y="29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×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44" name="组合 30739"/>
          <p:cNvGrpSpPr/>
          <p:nvPr/>
        </p:nvGrpSpPr>
        <p:grpSpPr>
          <a:xfrm>
            <a:off x="3917880" y="2762280"/>
            <a:ext cx="649440" cy="818280"/>
            <a:chOff x="3917880" y="2762280"/>
            <a:chExt cx="649440" cy="818280"/>
          </a:xfrm>
        </p:grpSpPr>
        <p:sp>
          <p:nvSpPr>
            <p:cNvPr id="1945" name="文本框 30740"/>
            <p:cNvSpPr/>
            <p:nvPr/>
          </p:nvSpPr>
          <p:spPr>
            <a:xfrm>
              <a:off x="3917880" y="27622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46" name="文本框 30741"/>
            <p:cNvSpPr/>
            <p:nvPr/>
          </p:nvSpPr>
          <p:spPr>
            <a:xfrm>
              <a:off x="3919320" y="312084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947" name="文本框 30742"/>
          <p:cNvSpPr/>
          <p:nvPr/>
        </p:nvSpPr>
        <p:spPr>
          <a:xfrm>
            <a:off x="4788000" y="29401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27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48" name="组合 30743"/>
          <p:cNvGrpSpPr/>
          <p:nvPr/>
        </p:nvGrpSpPr>
        <p:grpSpPr>
          <a:xfrm>
            <a:off x="1609560" y="3774960"/>
            <a:ext cx="4066920" cy="824760"/>
            <a:chOff x="1609560" y="3774960"/>
            <a:chExt cx="4066920" cy="824760"/>
          </a:xfrm>
        </p:grpSpPr>
        <p:grpSp>
          <p:nvGrpSpPr>
            <p:cNvPr id="1949" name="组合 30744"/>
            <p:cNvGrpSpPr/>
            <p:nvPr/>
          </p:nvGrpSpPr>
          <p:grpSpPr>
            <a:xfrm>
              <a:off x="1609560" y="3774960"/>
              <a:ext cx="4066920" cy="824760"/>
              <a:chOff x="1609560" y="3774960"/>
              <a:chExt cx="4066920" cy="824760"/>
            </a:xfrm>
          </p:grpSpPr>
          <p:grpSp>
            <p:nvGrpSpPr>
              <p:cNvPr id="1950" name="组合 30745"/>
              <p:cNvGrpSpPr/>
              <p:nvPr/>
            </p:nvGrpSpPr>
            <p:grpSpPr>
              <a:xfrm>
                <a:off x="1609560" y="3774960"/>
                <a:ext cx="1878120" cy="815040"/>
                <a:chOff x="1609560" y="3774960"/>
                <a:chExt cx="1878120" cy="815040"/>
              </a:xfrm>
            </p:grpSpPr>
            <p:grpSp>
              <p:nvGrpSpPr>
                <p:cNvPr id="1951" name="组合 30746"/>
                <p:cNvGrpSpPr/>
                <p:nvPr/>
              </p:nvGrpSpPr>
              <p:grpSpPr>
                <a:xfrm>
                  <a:off x="2359080" y="3774960"/>
                  <a:ext cx="511200" cy="815040"/>
                  <a:chOff x="2359080" y="3774960"/>
                  <a:chExt cx="511200" cy="815040"/>
                </a:xfrm>
              </p:grpSpPr>
              <p:sp>
                <p:nvSpPr>
                  <p:cNvPr id="1952" name="文本框 30747"/>
                  <p:cNvSpPr/>
                  <p:nvPr/>
                </p:nvSpPr>
                <p:spPr>
                  <a:xfrm>
                    <a:off x="2365560" y="413028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53" name="文本框 30748"/>
                  <p:cNvSpPr/>
                  <p:nvPr/>
                </p:nvSpPr>
                <p:spPr>
                  <a:xfrm>
                    <a:off x="2359080" y="37749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54" name="直接连接符 30749"/>
                  <p:cNvSpPr/>
                  <p:nvPr/>
                </p:nvSpPr>
                <p:spPr>
                  <a:xfrm>
                    <a:off x="2374920" y="419400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955" name="文本框 30750"/>
                <p:cNvSpPr/>
                <p:nvPr/>
              </p:nvSpPr>
              <p:spPr>
                <a:xfrm>
                  <a:off x="1704960" y="3924000"/>
                  <a:ext cx="1782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÷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956" name="组合 30751"/>
                <p:cNvGrpSpPr/>
                <p:nvPr/>
              </p:nvGrpSpPr>
              <p:grpSpPr>
                <a:xfrm>
                  <a:off x="1609560" y="3774960"/>
                  <a:ext cx="504720" cy="797760"/>
                  <a:chOff x="1609560" y="3774960"/>
                  <a:chExt cx="504720" cy="797760"/>
                </a:xfrm>
              </p:grpSpPr>
              <p:sp>
                <p:nvSpPr>
                  <p:cNvPr id="1957" name="文本框 30752"/>
                  <p:cNvSpPr/>
                  <p:nvPr/>
                </p:nvSpPr>
                <p:spPr>
                  <a:xfrm>
                    <a:off x="1609560" y="411300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6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58" name="文本框 30753"/>
                  <p:cNvSpPr/>
                  <p:nvPr/>
                </p:nvSpPr>
                <p:spPr>
                  <a:xfrm>
                    <a:off x="1692000" y="37749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7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59" name="直接连接符 30754"/>
                  <p:cNvSpPr/>
                  <p:nvPr/>
                </p:nvSpPr>
                <p:spPr>
                  <a:xfrm>
                    <a:off x="1707840" y="419400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0" name="组合 30755"/>
              <p:cNvGrpSpPr/>
              <p:nvPr/>
            </p:nvGrpSpPr>
            <p:grpSpPr>
              <a:xfrm>
                <a:off x="2770200" y="3774960"/>
                <a:ext cx="1030320" cy="822960"/>
                <a:chOff x="2770200" y="3774960"/>
                <a:chExt cx="1030320" cy="822960"/>
              </a:xfrm>
            </p:grpSpPr>
            <p:grpSp>
              <p:nvGrpSpPr>
                <p:cNvPr id="1961" name="组合 30756"/>
                <p:cNvGrpSpPr/>
                <p:nvPr/>
              </p:nvGrpSpPr>
              <p:grpSpPr>
                <a:xfrm>
                  <a:off x="2770200" y="3774960"/>
                  <a:ext cx="1030320" cy="822960"/>
                  <a:chOff x="2770200" y="3774960"/>
                  <a:chExt cx="1030320" cy="822960"/>
                </a:xfrm>
              </p:grpSpPr>
              <p:sp>
                <p:nvSpPr>
                  <p:cNvPr id="1962" name="文本框 30757"/>
                  <p:cNvSpPr/>
                  <p:nvPr/>
                </p:nvSpPr>
                <p:spPr>
                  <a:xfrm>
                    <a:off x="2770200" y="4138200"/>
                    <a:ext cx="1020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（   ）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63" name="文本框 30758"/>
                  <p:cNvSpPr/>
                  <p:nvPr/>
                </p:nvSpPr>
                <p:spPr>
                  <a:xfrm>
                    <a:off x="2779560" y="3774960"/>
                    <a:ext cx="10209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（   ）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964" name="直接连接符 30759"/>
                <p:cNvSpPr/>
                <p:nvPr/>
              </p:nvSpPr>
              <p:spPr>
                <a:xfrm>
                  <a:off x="3015000" y="4201920"/>
                  <a:ext cx="431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965" name="组合 30760"/>
              <p:cNvGrpSpPr/>
              <p:nvPr/>
            </p:nvGrpSpPr>
            <p:grpSpPr>
              <a:xfrm>
                <a:off x="3781440" y="3774960"/>
                <a:ext cx="1895040" cy="824760"/>
                <a:chOff x="3781440" y="3774960"/>
                <a:chExt cx="1895040" cy="824760"/>
              </a:xfrm>
            </p:grpSpPr>
            <p:grpSp>
              <p:nvGrpSpPr>
                <p:cNvPr id="1966" name="组合 30761"/>
                <p:cNvGrpSpPr/>
                <p:nvPr/>
              </p:nvGrpSpPr>
              <p:grpSpPr>
                <a:xfrm>
                  <a:off x="3781440" y="3776760"/>
                  <a:ext cx="1030320" cy="822960"/>
                  <a:chOff x="3781440" y="3776760"/>
                  <a:chExt cx="1030320" cy="822960"/>
                </a:xfrm>
              </p:grpSpPr>
              <p:grpSp>
                <p:nvGrpSpPr>
                  <p:cNvPr id="1967" name="组合 30762"/>
                  <p:cNvGrpSpPr/>
                  <p:nvPr/>
                </p:nvGrpSpPr>
                <p:grpSpPr>
                  <a:xfrm>
                    <a:off x="3781440" y="3776760"/>
                    <a:ext cx="1030320" cy="822960"/>
                    <a:chOff x="3781440" y="3776760"/>
                    <a:chExt cx="1030320" cy="822960"/>
                  </a:xfrm>
                </p:grpSpPr>
                <p:sp>
                  <p:nvSpPr>
                    <p:cNvPr id="1968" name="文本框 30763"/>
                    <p:cNvSpPr/>
                    <p:nvPr/>
                  </p:nvSpPr>
                  <p:spPr>
                    <a:xfrm>
                      <a:off x="3781440" y="4140000"/>
                      <a:ext cx="1020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969" name="文本框 30764"/>
                    <p:cNvSpPr/>
                    <p:nvPr/>
                  </p:nvSpPr>
                  <p:spPr>
                    <a:xfrm>
                      <a:off x="3790800" y="3776760"/>
                      <a:ext cx="1020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970" name="直接连接符 30765"/>
                  <p:cNvSpPr/>
                  <p:nvPr/>
                </p:nvSpPr>
                <p:spPr>
                  <a:xfrm>
                    <a:off x="4026240" y="4203720"/>
                    <a:ext cx="43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971" name="组合 30766"/>
                <p:cNvGrpSpPr/>
                <p:nvPr/>
              </p:nvGrpSpPr>
              <p:grpSpPr>
                <a:xfrm>
                  <a:off x="4646880" y="3774960"/>
                  <a:ext cx="1029600" cy="822960"/>
                  <a:chOff x="4646880" y="3774960"/>
                  <a:chExt cx="1029600" cy="822960"/>
                </a:xfrm>
              </p:grpSpPr>
              <p:grpSp>
                <p:nvGrpSpPr>
                  <p:cNvPr id="1972" name="组合 30767"/>
                  <p:cNvGrpSpPr/>
                  <p:nvPr/>
                </p:nvGrpSpPr>
                <p:grpSpPr>
                  <a:xfrm>
                    <a:off x="4646880" y="3774960"/>
                    <a:ext cx="1029600" cy="822960"/>
                    <a:chOff x="4646880" y="3774960"/>
                    <a:chExt cx="1029600" cy="822960"/>
                  </a:xfrm>
                </p:grpSpPr>
                <p:sp>
                  <p:nvSpPr>
                    <p:cNvPr id="1973" name="文本框 30768"/>
                    <p:cNvSpPr/>
                    <p:nvPr/>
                  </p:nvSpPr>
                  <p:spPr>
                    <a:xfrm>
                      <a:off x="4646880" y="4138200"/>
                      <a:ext cx="10202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974" name="文本框 30769"/>
                    <p:cNvSpPr/>
                    <p:nvPr/>
                  </p:nvSpPr>
                  <p:spPr>
                    <a:xfrm>
                      <a:off x="4655880" y="3774960"/>
                      <a:ext cx="1020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975" name="直接连接符 30770"/>
                  <p:cNvSpPr/>
                  <p:nvPr/>
                </p:nvSpPr>
                <p:spPr>
                  <a:xfrm>
                    <a:off x="4891320" y="4201920"/>
                    <a:ext cx="431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976" name="文本框 30771"/>
                <p:cNvSpPr/>
                <p:nvPr/>
              </p:nvSpPr>
              <p:spPr>
                <a:xfrm>
                  <a:off x="4434120" y="393372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977" name="椭圆 30772"/>
            <p:cNvSpPr/>
            <p:nvPr/>
          </p:nvSpPr>
          <p:spPr>
            <a:xfrm>
              <a:off x="3525840" y="4011480"/>
              <a:ext cx="360360" cy="360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78" name="组合 30773"/>
          <p:cNvGrpSpPr/>
          <p:nvPr/>
        </p:nvGrpSpPr>
        <p:grpSpPr>
          <a:xfrm>
            <a:off x="2997360" y="3784680"/>
            <a:ext cx="647640" cy="818280"/>
            <a:chOff x="2997360" y="3784680"/>
            <a:chExt cx="647640" cy="818280"/>
          </a:xfrm>
        </p:grpSpPr>
        <p:sp>
          <p:nvSpPr>
            <p:cNvPr id="1979" name="文本框 30774"/>
            <p:cNvSpPr/>
            <p:nvPr/>
          </p:nvSpPr>
          <p:spPr>
            <a:xfrm>
              <a:off x="3087720" y="378468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80" name="文本框 30775"/>
            <p:cNvSpPr/>
            <p:nvPr/>
          </p:nvSpPr>
          <p:spPr>
            <a:xfrm>
              <a:off x="2997360" y="41432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81" name="组合 30776"/>
          <p:cNvGrpSpPr/>
          <p:nvPr/>
        </p:nvGrpSpPr>
        <p:grpSpPr>
          <a:xfrm>
            <a:off x="4086360" y="3780000"/>
            <a:ext cx="648720" cy="818280"/>
            <a:chOff x="4086360" y="3780000"/>
            <a:chExt cx="648720" cy="818280"/>
          </a:xfrm>
        </p:grpSpPr>
        <p:sp>
          <p:nvSpPr>
            <p:cNvPr id="1982" name="文本框 30777"/>
            <p:cNvSpPr/>
            <p:nvPr/>
          </p:nvSpPr>
          <p:spPr>
            <a:xfrm>
              <a:off x="4086360" y="378000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83" name="文本框 30778"/>
            <p:cNvSpPr/>
            <p:nvPr/>
          </p:nvSpPr>
          <p:spPr>
            <a:xfrm>
              <a:off x="4087440" y="41385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984" name="文本框 30779"/>
          <p:cNvSpPr/>
          <p:nvPr/>
        </p:nvSpPr>
        <p:spPr>
          <a:xfrm>
            <a:off x="3483000" y="393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×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85" name="组合 30780"/>
          <p:cNvGrpSpPr/>
          <p:nvPr/>
        </p:nvGrpSpPr>
        <p:grpSpPr>
          <a:xfrm>
            <a:off x="4865760" y="3774960"/>
            <a:ext cx="647640" cy="818640"/>
            <a:chOff x="4865760" y="3774960"/>
            <a:chExt cx="647640" cy="818640"/>
          </a:xfrm>
        </p:grpSpPr>
        <p:sp>
          <p:nvSpPr>
            <p:cNvPr id="1986" name="文本框 30781"/>
            <p:cNvSpPr/>
            <p:nvPr/>
          </p:nvSpPr>
          <p:spPr>
            <a:xfrm>
              <a:off x="4875120" y="3774960"/>
              <a:ext cx="62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87" name="文本框 30782"/>
            <p:cNvSpPr/>
            <p:nvPr/>
          </p:nvSpPr>
          <p:spPr>
            <a:xfrm>
              <a:off x="4865760" y="41338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6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988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个数除以分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TextBox 1"/>
          <p:cNvSpPr/>
          <p:nvPr/>
        </p:nvSpPr>
        <p:spPr>
          <a:xfrm>
            <a:off x="395280" y="1413000"/>
            <a:ext cx="5072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理解情境，解决问题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0" name="Rectangle 2"/>
          <p:cNvSpPr/>
          <p:nvPr/>
        </p:nvSpPr>
        <p:spPr>
          <a:xfrm>
            <a:off x="471600" y="42372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四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混合运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1" name="Rectangle 2"/>
          <p:cNvSpPr/>
          <p:nvPr/>
        </p:nvSpPr>
        <p:spPr>
          <a:xfrm>
            <a:off x="1292400" y="5343480"/>
            <a:ext cx="75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出示方法一）谁读懂了它的意思？说一说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2" name="Rectangle 2"/>
          <p:cNvSpPr/>
          <p:nvPr/>
        </p:nvSpPr>
        <p:spPr>
          <a:xfrm>
            <a:off x="1292400" y="5770440"/>
            <a:ext cx="705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出示方法二）谁读懂了它的意思？说一说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3" name="Rectangle 2"/>
          <p:cNvSpPr/>
          <p:nvPr/>
        </p:nvSpPr>
        <p:spPr>
          <a:xfrm>
            <a:off x="500040" y="457200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4" name="Rectangle 2"/>
          <p:cNvSpPr/>
          <p:nvPr/>
        </p:nvSpPr>
        <p:spPr>
          <a:xfrm>
            <a:off x="1292400" y="5029200"/>
            <a:ext cx="610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能解决这个问题吗？用算式表达你的思考过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5" name="Rectangle 2"/>
          <p:cNvSpPr/>
          <p:nvPr/>
        </p:nvSpPr>
        <p:spPr>
          <a:xfrm>
            <a:off x="1285920" y="6164280"/>
            <a:ext cx="7786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上面的两种方法，请你用综合算式表示，并写出计算过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996" name="图片 31752" descr="33"/>
          <p:cNvPicPr/>
          <p:nvPr/>
        </p:nvPicPr>
        <p:blipFill>
          <a:blip r:embed="rId1"/>
          <a:stretch/>
        </p:blipFill>
        <p:spPr>
          <a:xfrm>
            <a:off x="849240" y="2090880"/>
            <a:ext cx="3976920" cy="2158920"/>
          </a:xfrm>
          <a:prstGeom prst="rect">
            <a:avLst/>
          </a:prstGeom>
          <a:ln w="0">
            <a:noFill/>
          </a:ln>
        </p:spPr>
      </p:pic>
      <p:grpSp>
        <p:nvGrpSpPr>
          <p:cNvPr id="1997" name="组合 31753"/>
          <p:cNvGrpSpPr/>
          <p:nvPr/>
        </p:nvGrpSpPr>
        <p:grpSpPr>
          <a:xfrm>
            <a:off x="4859280" y="1790640"/>
            <a:ext cx="4381560" cy="1496160"/>
            <a:chOff x="4859280" y="1790640"/>
            <a:chExt cx="4381560" cy="1496160"/>
          </a:xfrm>
        </p:grpSpPr>
        <p:sp>
          <p:nvSpPr>
            <p:cNvPr id="1998" name="TextBox 15"/>
            <p:cNvSpPr/>
            <p:nvPr/>
          </p:nvSpPr>
          <p:spPr>
            <a:xfrm>
              <a:off x="4859280" y="198936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方法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999" name="组合 31755"/>
            <p:cNvGrpSpPr/>
            <p:nvPr/>
          </p:nvGrpSpPr>
          <p:grpSpPr>
            <a:xfrm>
              <a:off x="5938920" y="1790640"/>
              <a:ext cx="2448000" cy="819720"/>
              <a:chOff x="5938920" y="1790640"/>
              <a:chExt cx="2448000" cy="819720"/>
            </a:xfrm>
          </p:grpSpPr>
          <p:grpSp>
            <p:nvGrpSpPr>
              <p:cNvPr id="2000" name="组合 31756"/>
              <p:cNvGrpSpPr/>
              <p:nvPr/>
            </p:nvGrpSpPr>
            <p:grpSpPr>
              <a:xfrm>
                <a:off x="5938920" y="1795320"/>
                <a:ext cx="1396800" cy="815040"/>
                <a:chOff x="5938920" y="1795320"/>
                <a:chExt cx="1396800" cy="815040"/>
              </a:xfrm>
            </p:grpSpPr>
            <p:sp>
              <p:nvSpPr>
                <p:cNvPr id="2001" name="文本框 31757"/>
                <p:cNvSpPr/>
                <p:nvPr/>
              </p:nvSpPr>
              <p:spPr>
                <a:xfrm>
                  <a:off x="6242040" y="2012760"/>
                  <a:ext cx="1093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02" name="文本框 31758"/>
                <p:cNvSpPr/>
                <p:nvPr/>
              </p:nvSpPr>
              <p:spPr>
                <a:xfrm>
                  <a:off x="5938920" y="21506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03" name="文本框 31759"/>
                <p:cNvSpPr/>
                <p:nvPr/>
              </p:nvSpPr>
              <p:spPr>
                <a:xfrm>
                  <a:off x="5952960" y="17953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04" name="直接连接符 31760"/>
                <p:cNvSpPr/>
                <p:nvPr/>
              </p:nvSpPr>
              <p:spPr>
                <a:xfrm>
                  <a:off x="5959440" y="221436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005" name="文本框 31761"/>
              <p:cNvSpPr/>
              <p:nvPr/>
            </p:nvSpPr>
            <p:spPr>
              <a:xfrm>
                <a:off x="6643800" y="1996920"/>
                <a:ext cx="174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（片）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2006" name="组合 31762"/>
              <p:cNvGrpSpPr/>
              <p:nvPr/>
            </p:nvGrpSpPr>
            <p:grpSpPr>
              <a:xfrm>
                <a:off x="7058160" y="1790640"/>
                <a:ext cx="679320" cy="805680"/>
                <a:chOff x="7058160" y="1790640"/>
                <a:chExt cx="679320" cy="805680"/>
              </a:xfrm>
            </p:grpSpPr>
            <p:sp>
              <p:nvSpPr>
                <p:cNvPr id="2007" name="文本框 31763"/>
                <p:cNvSpPr/>
                <p:nvPr/>
              </p:nvSpPr>
              <p:spPr>
                <a:xfrm>
                  <a:off x="7064280" y="2136600"/>
                  <a:ext cx="50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08" name="文本框 31764"/>
                <p:cNvSpPr/>
                <p:nvPr/>
              </p:nvSpPr>
              <p:spPr>
                <a:xfrm>
                  <a:off x="7058160" y="1790640"/>
                  <a:ext cx="679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09" name="直接连接符 31765"/>
                <p:cNvSpPr/>
                <p:nvPr/>
              </p:nvSpPr>
              <p:spPr>
                <a:xfrm>
                  <a:off x="7076880" y="2212920"/>
                  <a:ext cx="28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2010" name="组合 31766"/>
            <p:cNvGrpSpPr/>
            <p:nvPr/>
          </p:nvGrpSpPr>
          <p:grpSpPr>
            <a:xfrm>
              <a:off x="5856480" y="2470320"/>
              <a:ext cx="3384360" cy="816480"/>
              <a:chOff x="5856480" y="2470320"/>
              <a:chExt cx="3384360" cy="816480"/>
            </a:xfrm>
          </p:grpSpPr>
          <p:sp>
            <p:nvSpPr>
              <p:cNvPr id="2011" name="文本框 31767"/>
              <p:cNvSpPr/>
              <p:nvPr/>
            </p:nvSpPr>
            <p:spPr>
              <a:xfrm>
                <a:off x="5856480" y="2633760"/>
                <a:ext cx="33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÷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（天）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2012" name="组合 31768"/>
              <p:cNvGrpSpPr/>
              <p:nvPr/>
            </p:nvGrpSpPr>
            <p:grpSpPr>
              <a:xfrm>
                <a:off x="6432480" y="2471760"/>
                <a:ext cx="510480" cy="815040"/>
                <a:chOff x="6432480" y="2471760"/>
                <a:chExt cx="510480" cy="815040"/>
              </a:xfrm>
            </p:grpSpPr>
            <p:sp>
              <p:nvSpPr>
                <p:cNvPr id="2013" name="文本框 31769"/>
                <p:cNvSpPr/>
                <p:nvPr/>
              </p:nvSpPr>
              <p:spPr>
                <a:xfrm>
                  <a:off x="6438600" y="282708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14" name="文本框 31770"/>
                <p:cNvSpPr/>
                <p:nvPr/>
              </p:nvSpPr>
              <p:spPr>
                <a:xfrm>
                  <a:off x="6432480" y="247176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15" name="直接连接符 31771"/>
                <p:cNvSpPr/>
                <p:nvPr/>
              </p:nvSpPr>
              <p:spPr>
                <a:xfrm>
                  <a:off x="6447960" y="289080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016" name="组合 31772"/>
              <p:cNvGrpSpPr/>
              <p:nvPr/>
            </p:nvGrpSpPr>
            <p:grpSpPr>
              <a:xfrm>
                <a:off x="7512120" y="2470320"/>
                <a:ext cx="510120" cy="815040"/>
                <a:chOff x="7512120" y="2470320"/>
                <a:chExt cx="510120" cy="815040"/>
              </a:xfrm>
            </p:grpSpPr>
            <p:sp>
              <p:nvSpPr>
                <p:cNvPr id="2017" name="文本框 31773"/>
                <p:cNvSpPr/>
                <p:nvPr/>
              </p:nvSpPr>
              <p:spPr>
                <a:xfrm>
                  <a:off x="7518240" y="2825640"/>
                  <a:ext cx="50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18" name="文本框 31774"/>
                <p:cNvSpPr/>
                <p:nvPr/>
              </p:nvSpPr>
              <p:spPr>
                <a:xfrm>
                  <a:off x="7512120" y="2470320"/>
                  <a:ext cx="35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19" name="直接连接符 31775"/>
                <p:cNvSpPr/>
                <p:nvPr/>
              </p:nvSpPr>
              <p:spPr>
                <a:xfrm>
                  <a:off x="7527600" y="2889360"/>
                  <a:ext cx="286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2020" name="组合 31776"/>
          <p:cNvGrpSpPr/>
          <p:nvPr/>
        </p:nvGrpSpPr>
        <p:grpSpPr>
          <a:xfrm>
            <a:off x="4870440" y="3203640"/>
            <a:ext cx="4381560" cy="1247040"/>
            <a:chOff x="4870440" y="3203640"/>
            <a:chExt cx="4381560" cy="1247040"/>
          </a:xfrm>
        </p:grpSpPr>
        <p:sp>
          <p:nvSpPr>
            <p:cNvPr id="2021" name="TextBox 15"/>
            <p:cNvSpPr/>
            <p:nvPr/>
          </p:nvSpPr>
          <p:spPr>
            <a:xfrm>
              <a:off x="4870440" y="336060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方法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22" name="组合 31778"/>
            <p:cNvGrpSpPr/>
            <p:nvPr/>
          </p:nvGrpSpPr>
          <p:grpSpPr>
            <a:xfrm>
              <a:off x="5867280" y="3203640"/>
              <a:ext cx="3384720" cy="816480"/>
              <a:chOff x="5867280" y="3203640"/>
              <a:chExt cx="3384720" cy="816480"/>
            </a:xfrm>
          </p:grpSpPr>
          <p:sp>
            <p:nvSpPr>
              <p:cNvPr id="2023" name="文本框 31779"/>
              <p:cNvSpPr/>
              <p:nvPr/>
            </p:nvSpPr>
            <p:spPr>
              <a:xfrm>
                <a:off x="5867280" y="3367080"/>
                <a:ext cx="338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÷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4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（次）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2024" name="组合 31780"/>
              <p:cNvGrpSpPr/>
              <p:nvPr/>
            </p:nvGrpSpPr>
            <p:grpSpPr>
              <a:xfrm>
                <a:off x="6443640" y="3205080"/>
                <a:ext cx="511200" cy="815040"/>
                <a:chOff x="6443640" y="3205080"/>
                <a:chExt cx="511200" cy="815040"/>
              </a:xfrm>
            </p:grpSpPr>
            <p:sp>
              <p:nvSpPr>
                <p:cNvPr id="2025" name="文本框 31781"/>
                <p:cNvSpPr/>
                <p:nvPr/>
              </p:nvSpPr>
              <p:spPr>
                <a:xfrm>
                  <a:off x="6450120" y="35604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26" name="文本框 31782"/>
                <p:cNvSpPr/>
                <p:nvPr/>
              </p:nvSpPr>
              <p:spPr>
                <a:xfrm>
                  <a:off x="6443640" y="32050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27" name="直接连接符 31783"/>
                <p:cNvSpPr/>
                <p:nvPr/>
              </p:nvSpPr>
              <p:spPr>
                <a:xfrm>
                  <a:off x="6459480" y="362412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028" name="组合 31784"/>
              <p:cNvGrpSpPr/>
              <p:nvPr/>
            </p:nvGrpSpPr>
            <p:grpSpPr>
              <a:xfrm>
                <a:off x="7523280" y="3203640"/>
                <a:ext cx="510480" cy="815040"/>
                <a:chOff x="7523280" y="3203640"/>
                <a:chExt cx="510480" cy="815040"/>
              </a:xfrm>
            </p:grpSpPr>
            <p:sp>
              <p:nvSpPr>
                <p:cNvPr id="2029" name="文本框 31785"/>
                <p:cNvSpPr/>
                <p:nvPr/>
              </p:nvSpPr>
              <p:spPr>
                <a:xfrm>
                  <a:off x="7529400" y="355896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30" name="文本框 31786"/>
                <p:cNvSpPr/>
                <p:nvPr/>
              </p:nvSpPr>
              <p:spPr>
                <a:xfrm>
                  <a:off x="7523280" y="320364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31" name="直接连接符 31787"/>
                <p:cNvSpPr/>
                <p:nvPr/>
              </p:nvSpPr>
              <p:spPr>
                <a:xfrm>
                  <a:off x="7538760" y="36226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2032" name="文本框 31788"/>
            <p:cNvSpPr/>
            <p:nvPr/>
          </p:nvSpPr>
          <p:spPr>
            <a:xfrm>
              <a:off x="5886360" y="399096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4÷3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天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Rectangle 2"/>
          <p:cNvSpPr/>
          <p:nvPr/>
        </p:nvSpPr>
        <p:spPr>
          <a:xfrm>
            <a:off x="1285920" y="5952960"/>
            <a:ext cx="75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谁读懂了它的意思，说一说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4" name="Rectangle 2"/>
          <p:cNvSpPr/>
          <p:nvPr/>
        </p:nvSpPr>
        <p:spPr>
          <a:xfrm>
            <a:off x="493560" y="509580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5" name="Rectangle 2"/>
          <p:cNvSpPr/>
          <p:nvPr/>
        </p:nvSpPr>
        <p:spPr>
          <a:xfrm>
            <a:off x="1285920" y="5591160"/>
            <a:ext cx="610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能解决这个问题吗？用算式表达你的思考过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6" name="TextBox 1"/>
          <p:cNvSpPr/>
          <p:nvPr/>
        </p:nvSpPr>
        <p:spPr>
          <a:xfrm>
            <a:off x="395280" y="1413000"/>
            <a:ext cx="439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巩固练习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037" name="组合 32773"/>
          <p:cNvGrpSpPr/>
          <p:nvPr/>
        </p:nvGrpSpPr>
        <p:grpSpPr>
          <a:xfrm>
            <a:off x="765000" y="1916280"/>
            <a:ext cx="5904000" cy="1465560"/>
            <a:chOff x="765000" y="1916280"/>
            <a:chExt cx="5904000" cy="1465560"/>
          </a:xfrm>
        </p:grpSpPr>
        <p:sp>
          <p:nvSpPr>
            <p:cNvPr id="2038" name="矩形 32774"/>
            <p:cNvSpPr/>
            <p:nvPr/>
          </p:nvSpPr>
          <p:spPr>
            <a:xfrm>
              <a:off x="765000" y="1916280"/>
              <a:ext cx="5904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王叔叔家阁楼上的窗玻璃是梯形的，上底、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下底和高分别是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、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、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。这块玻璃的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面积是多少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39" name="组合 32775"/>
            <p:cNvGrpSpPr/>
            <p:nvPr/>
          </p:nvGrpSpPr>
          <p:grpSpPr>
            <a:xfrm>
              <a:off x="2636640" y="2290680"/>
              <a:ext cx="511200" cy="815040"/>
              <a:chOff x="2636640" y="2290680"/>
              <a:chExt cx="511200" cy="815040"/>
            </a:xfrm>
          </p:grpSpPr>
          <p:sp>
            <p:nvSpPr>
              <p:cNvPr id="2040" name="文本框 32776"/>
              <p:cNvSpPr/>
              <p:nvPr/>
            </p:nvSpPr>
            <p:spPr>
              <a:xfrm>
                <a:off x="2643120" y="2646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41" name="文本框 32777"/>
              <p:cNvSpPr/>
              <p:nvPr/>
            </p:nvSpPr>
            <p:spPr>
              <a:xfrm>
                <a:off x="2636640" y="2290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42" name="直接连接符 32778"/>
              <p:cNvSpPr/>
              <p:nvPr/>
            </p:nvSpPr>
            <p:spPr>
              <a:xfrm>
                <a:off x="2652480" y="27097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43" name="组合 32779"/>
            <p:cNvGrpSpPr/>
            <p:nvPr/>
          </p:nvGrpSpPr>
          <p:grpSpPr>
            <a:xfrm>
              <a:off x="3403440" y="2284560"/>
              <a:ext cx="511200" cy="815040"/>
              <a:chOff x="3403440" y="2284560"/>
              <a:chExt cx="511200" cy="815040"/>
            </a:xfrm>
          </p:grpSpPr>
          <p:sp>
            <p:nvSpPr>
              <p:cNvPr id="2044" name="文本框 32780"/>
              <p:cNvSpPr/>
              <p:nvPr/>
            </p:nvSpPr>
            <p:spPr>
              <a:xfrm>
                <a:off x="3409920" y="2639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45" name="文本框 32781"/>
              <p:cNvSpPr/>
              <p:nvPr/>
            </p:nvSpPr>
            <p:spPr>
              <a:xfrm>
                <a:off x="3403440" y="2284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46" name="直接连接符 32782"/>
              <p:cNvSpPr/>
              <p:nvPr/>
            </p:nvSpPr>
            <p:spPr>
              <a:xfrm>
                <a:off x="3419280" y="2703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47" name="组合 32783"/>
            <p:cNvGrpSpPr/>
            <p:nvPr/>
          </p:nvGrpSpPr>
          <p:grpSpPr>
            <a:xfrm>
              <a:off x="4195440" y="2284560"/>
              <a:ext cx="511200" cy="815040"/>
              <a:chOff x="4195440" y="2284560"/>
              <a:chExt cx="511200" cy="815040"/>
            </a:xfrm>
          </p:grpSpPr>
          <p:sp>
            <p:nvSpPr>
              <p:cNvPr id="2048" name="文本框 32784"/>
              <p:cNvSpPr/>
              <p:nvPr/>
            </p:nvSpPr>
            <p:spPr>
              <a:xfrm>
                <a:off x="4201920" y="2639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49" name="文本框 32785"/>
              <p:cNvSpPr/>
              <p:nvPr/>
            </p:nvSpPr>
            <p:spPr>
              <a:xfrm>
                <a:off x="4195440" y="2284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50" name="直接连接符 32786"/>
              <p:cNvSpPr/>
              <p:nvPr/>
            </p:nvSpPr>
            <p:spPr>
              <a:xfrm>
                <a:off x="4211280" y="2703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2051" name="图片 32787" descr="34"/>
          <p:cNvPicPr/>
          <p:nvPr/>
        </p:nvPicPr>
        <p:blipFill>
          <a:blip r:embed="rId1"/>
          <a:stretch/>
        </p:blipFill>
        <p:spPr>
          <a:xfrm>
            <a:off x="6516720" y="1989000"/>
            <a:ext cx="1814400" cy="1801800"/>
          </a:xfrm>
          <a:prstGeom prst="rect">
            <a:avLst/>
          </a:prstGeom>
          <a:ln w="0">
            <a:noFill/>
          </a:ln>
        </p:spPr>
      </p:pic>
      <p:grpSp>
        <p:nvGrpSpPr>
          <p:cNvPr id="2052" name="组合 32788"/>
          <p:cNvGrpSpPr/>
          <p:nvPr/>
        </p:nvGrpSpPr>
        <p:grpSpPr>
          <a:xfrm>
            <a:off x="3179880" y="3213000"/>
            <a:ext cx="2717280" cy="2075760"/>
            <a:chOff x="3179880" y="3213000"/>
            <a:chExt cx="2717280" cy="2075760"/>
          </a:xfrm>
        </p:grpSpPr>
        <p:grpSp>
          <p:nvGrpSpPr>
            <p:cNvPr id="2053" name="组合 32789"/>
            <p:cNvGrpSpPr/>
            <p:nvPr/>
          </p:nvGrpSpPr>
          <p:grpSpPr>
            <a:xfrm>
              <a:off x="3376440" y="3213000"/>
              <a:ext cx="2520720" cy="834120"/>
              <a:chOff x="3376440" y="3213000"/>
              <a:chExt cx="2520720" cy="834120"/>
            </a:xfrm>
          </p:grpSpPr>
          <p:grpSp>
            <p:nvGrpSpPr>
              <p:cNvPr id="2054" name="组合 32790"/>
              <p:cNvGrpSpPr/>
              <p:nvPr/>
            </p:nvGrpSpPr>
            <p:grpSpPr>
              <a:xfrm>
                <a:off x="3693960" y="3232080"/>
                <a:ext cx="511200" cy="815040"/>
                <a:chOff x="3693960" y="3232080"/>
                <a:chExt cx="511200" cy="815040"/>
              </a:xfrm>
            </p:grpSpPr>
            <p:sp>
              <p:nvSpPr>
                <p:cNvPr id="2055" name="文本框 32791"/>
                <p:cNvSpPr/>
                <p:nvPr/>
              </p:nvSpPr>
              <p:spPr>
                <a:xfrm>
                  <a:off x="3700440" y="35874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56" name="文本框 32792"/>
                <p:cNvSpPr/>
                <p:nvPr/>
              </p:nvSpPr>
              <p:spPr>
                <a:xfrm>
                  <a:off x="3693960" y="32320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57" name="直接连接符 32793"/>
                <p:cNvSpPr/>
                <p:nvPr/>
              </p:nvSpPr>
              <p:spPr>
                <a:xfrm>
                  <a:off x="3709800" y="365112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058" name="文本框 32794"/>
              <p:cNvSpPr/>
              <p:nvPr/>
            </p:nvSpPr>
            <p:spPr>
              <a:xfrm>
                <a:off x="3376440" y="3378240"/>
                <a:ext cx="25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（  ＋  ）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   ÷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2059" name="组合 32795"/>
              <p:cNvGrpSpPr/>
              <p:nvPr/>
            </p:nvGrpSpPr>
            <p:grpSpPr>
              <a:xfrm>
                <a:off x="4209840" y="3232080"/>
                <a:ext cx="511200" cy="815040"/>
                <a:chOff x="4209840" y="3232080"/>
                <a:chExt cx="511200" cy="815040"/>
              </a:xfrm>
            </p:grpSpPr>
            <p:sp>
              <p:nvSpPr>
                <p:cNvPr id="2060" name="文本框 32796"/>
                <p:cNvSpPr/>
                <p:nvPr/>
              </p:nvSpPr>
              <p:spPr>
                <a:xfrm>
                  <a:off x="4216320" y="35874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61" name="文本框 32797"/>
                <p:cNvSpPr/>
                <p:nvPr/>
              </p:nvSpPr>
              <p:spPr>
                <a:xfrm>
                  <a:off x="4209840" y="32320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62" name="直接连接符 32798"/>
                <p:cNvSpPr/>
                <p:nvPr/>
              </p:nvSpPr>
              <p:spPr>
                <a:xfrm>
                  <a:off x="4225680" y="365112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063" name="组合 32799"/>
              <p:cNvGrpSpPr/>
              <p:nvPr/>
            </p:nvGrpSpPr>
            <p:grpSpPr>
              <a:xfrm>
                <a:off x="5035320" y="3213000"/>
                <a:ext cx="511200" cy="815040"/>
                <a:chOff x="5035320" y="3213000"/>
                <a:chExt cx="511200" cy="815040"/>
              </a:xfrm>
            </p:grpSpPr>
            <p:sp>
              <p:nvSpPr>
                <p:cNvPr id="2064" name="文本框 32800"/>
                <p:cNvSpPr/>
                <p:nvPr/>
              </p:nvSpPr>
              <p:spPr>
                <a:xfrm>
                  <a:off x="5041800" y="35683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65" name="文本框 32801"/>
                <p:cNvSpPr/>
                <p:nvPr/>
              </p:nvSpPr>
              <p:spPr>
                <a:xfrm>
                  <a:off x="5035320" y="32130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66" name="直接连接符 32802"/>
                <p:cNvSpPr/>
                <p:nvPr/>
              </p:nvSpPr>
              <p:spPr>
                <a:xfrm>
                  <a:off x="5051160" y="36320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2067" name="文本框 32803"/>
            <p:cNvSpPr/>
            <p:nvPr/>
          </p:nvSpPr>
          <p:spPr>
            <a:xfrm>
              <a:off x="3179880" y="397980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  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68" name="组合 32804"/>
            <p:cNvGrpSpPr/>
            <p:nvPr/>
          </p:nvGrpSpPr>
          <p:grpSpPr>
            <a:xfrm>
              <a:off x="3578400" y="3840120"/>
              <a:ext cx="510480" cy="815040"/>
              <a:chOff x="3578400" y="3840120"/>
              <a:chExt cx="510480" cy="815040"/>
            </a:xfrm>
          </p:grpSpPr>
          <p:sp>
            <p:nvSpPr>
              <p:cNvPr id="2069" name="文本框 32805"/>
              <p:cNvSpPr/>
              <p:nvPr/>
            </p:nvSpPr>
            <p:spPr>
              <a:xfrm>
                <a:off x="3584520" y="41954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0" name="文本框 32806"/>
              <p:cNvSpPr/>
              <p:nvPr/>
            </p:nvSpPr>
            <p:spPr>
              <a:xfrm>
                <a:off x="3578400" y="38401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1" name="直接连接符 32807"/>
              <p:cNvSpPr/>
              <p:nvPr/>
            </p:nvSpPr>
            <p:spPr>
              <a:xfrm>
                <a:off x="3593880" y="42591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72" name="组合 32808"/>
            <p:cNvGrpSpPr/>
            <p:nvPr/>
          </p:nvGrpSpPr>
          <p:grpSpPr>
            <a:xfrm>
              <a:off x="4143240" y="3841920"/>
              <a:ext cx="511200" cy="815040"/>
              <a:chOff x="4143240" y="3841920"/>
              <a:chExt cx="511200" cy="815040"/>
            </a:xfrm>
          </p:grpSpPr>
          <p:sp>
            <p:nvSpPr>
              <p:cNvPr id="2073" name="文本框 32809"/>
              <p:cNvSpPr/>
              <p:nvPr/>
            </p:nvSpPr>
            <p:spPr>
              <a:xfrm>
                <a:off x="4149720" y="4197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4" name="文本框 32810"/>
              <p:cNvSpPr/>
              <p:nvPr/>
            </p:nvSpPr>
            <p:spPr>
              <a:xfrm>
                <a:off x="4143240" y="3841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5" name="直接连接符 32811"/>
              <p:cNvSpPr/>
              <p:nvPr/>
            </p:nvSpPr>
            <p:spPr>
              <a:xfrm>
                <a:off x="4159080" y="42609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76" name="组合 32812"/>
            <p:cNvGrpSpPr/>
            <p:nvPr/>
          </p:nvGrpSpPr>
          <p:grpSpPr>
            <a:xfrm>
              <a:off x="4675320" y="3832200"/>
              <a:ext cx="511200" cy="815040"/>
              <a:chOff x="4675320" y="3832200"/>
              <a:chExt cx="511200" cy="815040"/>
            </a:xfrm>
          </p:grpSpPr>
          <p:sp>
            <p:nvSpPr>
              <p:cNvPr id="2077" name="文本框 32813"/>
              <p:cNvSpPr/>
              <p:nvPr/>
            </p:nvSpPr>
            <p:spPr>
              <a:xfrm>
                <a:off x="4681800" y="4187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8" name="文本框 32814"/>
              <p:cNvSpPr/>
              <p:nvPr/>
            </p:nvSpPr>
            <p:spPr>
              <a:xfrm>
                <a:off x="4675320" y="3832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9" name="直接连接符 32815"/>
              <p:cNvSpPr/>
              <p:nvPr/>
            </p:nvSpPr>
            <p:spPr>
              <a:xfrm>
                <a:off x="4691160" y="42512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80" name="文本框 32816"/>
            <p:cNvSpPr/>
            <p:nvPr/>
          </p:nvSpPr>
          <p:spPr>
            <a:xfrm>
              <a:off x="3195720" y="4608360"/>
              <a:ext cx="18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（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81" name="组合 32817"/>
            <p:cNvGrpSpPr/>
            <p:nvPr/>
          </p:nvGrpSpPr>
          <p:grpSpPr>
            <a:xfrm>
              <a:off x="3530520" y="4473720"/>
              <a:ext cx="576360" cy="815040"/>
              <a:chOff x="3530520" y="4473720"/>
              <a:chExt cx="576360" cy="815040"/>
            </a:xfrm>
          </p:grpSpPr>
          <p:sp>
            <p:nvSpPr>
              <p:cNvPr id="2082" name="文本框 32818"/>
              <p:cNvSpPr/>
              <p:nvPr/>
            </p:nvSpPr>
            <p:spPr>
              <a:xfrm>
                <a:off x="3536640" y="482904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83" name="文本框 32819"/>
              <p:cNvSpPr/>
              <p:nvPr/>
            </p:nvSpPr>
            <p:spPr>
              <a:xfrm>
                <a:off x="3530520" y="447372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84" name="直接连接符 32820"/>
              <p:cNvSpPr/>
              <p:nvPr/>
            </p:nvSpPr>
            <p:spPr>
              <a:xfrm>
                <a:off x="3603600" y="4892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pic>
          <p:nvPicPr>
            <p:cNvPr id="2085" name="对象 32821" descr=""/>
            <p:cNvPicPr/>
            <p:nvPr/>
          </p:nvPicPr>
          <p:blipFill>
            <a:blip r:embed="rId2"/>
            <a:stretch/>
          </p:blipFill>
          <p:spPr>
            <a:xfrm>
              <a:off x="4168800" y="4643280"/>
              <a:ext cx="3603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6" name="Rectangle 2"/>
          <p:cNvSpPr/>
          <p:nvPr/>
        </p:nvSpPr>
        <p:spPr>
          <a:xfrm>
            <a:off x="471600" y="42372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四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混合运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五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8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9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2090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2091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2092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93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2094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2095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2096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2098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复习导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2"/>
          <p:cNvSpPr/>
          <p:nvPr/>
        </p:nvSpPr>
        <p:spPr>
          <a:xfrm>
            <a:off x="714240" y="1571760"/>
            <a:ext cx="4714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说出下面各数的倒数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Rectangle 2"/>
          <p:cNvSpPr/>
          <p:nvPr/>
        </p:nvSpPr>
        <p:spPr>
          <a:xfrm>
            <a:off x="1285920" y="3786120"/>
            <a:ext cx="1643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7" name="文本框 19460"/>
          <p:cNvSpPr/>
          <p:nvPr/>
        </p:nvSpPr>
        <p:spPr>
          <a:xfrm>
            <a:off x="1341360" y="26654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88" name="组合 19461"/>
          <p:cNvGrpSpPr/>
          <p:nvPr/>
        </p:nvGrpSpPr>
        <p:grpSpPr>
          <a:xfrm>
            <a:off x="2268360" y="2492280"/>
            <a:ext cx="511200" cy="815040"/>
            <a:chOff x="2268360" y="2492280"/>
            <a:chExt cx="511200" cy="815040"/>
          </a:xfrm>
        </p:grpSpPr>
        <p:sp>
          <p:nvSpPr>
            <p:cNvPr id="1489" name="文本框 19462"/>
            <p:cNvSpPr/>
            <p:nvPr/>
          </p:nvSpPr>
          <p:spPr>
            <a:xfrm>
              <a:off x="2274840" y="2847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0" name="文本框 19463"/>
            <p:cNvSpPr/>
            <p:nvPr/>
          </p:nvSpPr>
          <p:spPr>
            <a:xfrm>
              <a:off x="2268360" y="2492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1" name="直接连接符 19464"/>
            <p:cNvSpPr/>
            <p:nvPr/>
          </p:nvSpPr>
          <p:spPr>
            <a:xfrm>
              <a:off x="2284200" y="29113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492" name="组合 19465"/>
          <p:cNvGrpSpPr/>
          <p:nvPr/>
        </p:nvGrpSpPr>
        <p:grpSpPr>
          <a:xfrm>
            <a:off x="3268800" y="2492280"/>
            <a:ext cx="511200" cy="815040"/>
            <a:chOff x="3268800" y="2492280"/>
            <a:chExt cx="511200" cy="815040"/>
          </a:xfrm>
        </p:grpSpPr>
        <p:sp>
          <p:nvSpPr>
            <p:cNvPr id="1493" name="文本框 19466"/>
            <p:cNvSpPr/>
            <p:nvPr/>
          </p:nvSpPr>
          <p:spPr>
            <a:xfrm>
              <a:off x="3275280" y="2847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4" name="文本框 19467"/>
            <p:cNvSpPr/>
            <p:nvPr/>
          </p:nvSpPr>
          <p:spPr>
            <a:xfrm>
              <a:off x="3268800" y="2492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5" name="直接连接符 19468"/>
            <p:cNvSpPr/>
            <p:nvPr/>
          </p:nvSpPr>
          <p:spPr>
            <a:xfrm>
              <a:off x="3284640" y="29113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496" name="组合 19469"/>
          <p:cNvGrpSpPr/>
          <p:nvPr/>
        </p:nvGrpSpPr>
        <p:grpSpPr>
          <a:xfrm>
            <a:off x="4129200" y="2492280"/>
            <a:ext cx="586800" cy="815400"/>
            <a:chOff x="4129200" y="2492280"/>
            <a:chExt cx="586800" cy="815400"/>
          </a:xfrm>
        </p:grpSpPr>
        <p:sp>
          <p:nvSpPr>
            <p:cNvPr id="1497" name="文本框 19470"/>
            <p:cNvSpPr/>
            <p:nvPr/>
          </p:nvSpPr>
          <p:spPr>
            <a:xfrm>
              <a:off x="4211280" y="2847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8" name="文本框 19471"/>
            <p:cNvSpPr/>
            <p:nvPr/>
          </p:nvSpPr>
          <p:spPr>
            <a:xfrm>
              <a:off x="4129200" y="249228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9" name="直接连接符 19472"/>
            <p:cNvSpPr/>
            <p:nvPr/>
          </p:nvSpPr>
          <p:spPr>
            <a:xfrm>
              <a:off x="4192200" y="2911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00" name="文本框 19473"/>
          <p:cNvSpPr/>
          <p:nvPr/>
        </p:nvSpPr>
        <p:spPr>
          <a:xfrm>
            <a:off x="5176800" y="26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01" name="组合 19474"/>
          <p:cNvGrpSpPr/>
          <p:nvPr/>
        </p:nvGrpSpPr>
        <p:grpSpPr>
          <a:xfrm>
            <a:off x="1335240" y="4102200"/>
            <a:ext cx="511200" cy="815400"/>
            <a:chOff x="1335240" y="4102200"/>
            <a:chExt cx="511200" cy="815400"/>
          </a:xfrm>
        </p:grpSpPr>
        <p:sp>
          <p:nvSpPr>
            <p:cNvPr id="1502" name="文本框 19475"/>
            <p:cNvSpPr/>
            <p:nvPr/>
          </p:nvSpPr>
          <p:spPr>
            <a:xfrm>
              <a:off x="1341360" y="44578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3" name="文本框 19476"/>
            <p:cNvSpPr/>
            <p:nvPr/>
          </p:nvSpPr>
          <p:spPr>
            <a:xfrm>
              <a:off x="1335240" y="4102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4" name="直接连接符 19477"/>
            <p:cNvSpPr/>
            <p:nvPr/>
          </p:nvSpPr>
          <p:spPr>
            <a:xfrm>
              <a:off x="1351080" y="4521240"/>
              <a:ext cx="287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05" name="文本框 19478"/>
          <p:cNvSpPr/>
          <p:nvPr/>
        </p:nvSpPr>
        <p:spPr>
          <a:xfrm>
            <a:off x="2262240" y="4302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5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06" name="组合 19479"/>
          <p:cNvGrpSpPr/>
          <p:nvPr/>
        </p:nvGrpSpPr>
        <p:grpSpPr>
          <a:xfrm>
            <a:off x="4111560" y="4129200"/>
            <a:ext cx="504720" cy="815040"/>
            <a:chOff x="4111560" y="4129200"/>
            <a:chExt cx="504720" cy="815040"/>
          </a:xfrm>
        </p:grpSpPr>
        <p:sp>
          <p:nvSpPr>
            <p:cNvPr id="1507" name="文本框 19480"/>
            <p:cNvSpPr/>
            <p:nvPr/>
          </p:nvSpPr>
          <p:spPr>
            <a:xfrm>
              <a:off x="4111560" y="4484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8" name="文本框 19481"/>
            <p:cNvSpPr/>
            <p:nvPr/>
          </p:nvSpPr>
          <p:spPr>
            <a:xfrm>
              <a:off x="4200480" y="4129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9" name="直接连接符 19482"/>
            <p:cNvSpPr/>
            <p:nvPr/>
          </p:nvSpPr>
          <p:spPr>
            <a:xfrm>
              <a:off x="4178160" y="454824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10" name="文本框 19483"/>
          <p:cNvSpPr/>
          <p:nvPr/>
        </p:nvSpPr>
        <p:spPr>
          <a:xfrm>
            <a:off x="5219640" y="42991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11" name="组合 19484"/>
          <p:cNvGrpSpPr/>
          <p:nvPr/>
        </p:nvGrpSpPr>
        <p:grpSpPr>
          <a:xfrm>
            <a:off x="3203640" y="4114800"/>
            <a:ext cx="511200" cy="815400"/>
            <a:chOff x="3203640" y="4114800"/>
            <a:chExt cx="511200" cy="815400"/>
          </a:xfrm>
        </p:grpSpPr>
        <p:sp>
          <p:nvSpPr>
            <p:cNvPr id="1512" name="文本框 19485"/>
            <p:cNvSpPr/>
            <p:nvPr/>
          </p:nvSpPr>
          <p:spPr>
            <a:xfrm>
              <a:off x="3209760" y="44704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3" name="文本框 19486"/>
            <p:cNvSpPr/>
            <p:nvPr/>
          </p:nvSpPr>
          <p:spPr>
            <a:xfrm>
              <a:off x="3203640" y="4114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4" name="直接连接符 19487"/>
            <p:cNvSpPr/>
            <p:nvPr/>
          </p:nvSpPr>
          <p:spPr>
            <a:xfrm>
              <a:off x="3219480" y="4533840"/>
              <a:ext cx="287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15" name="矩形 19488"/>
          <p:cNvSpPr/>
          <p:nvPr/>
        </p:nvSpPr>
        <p:spPr>
          <a:xfrm>
            <a:off x="18720" y="4432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6" name="矩形 19489"/>
          <p:cNvSpPr/>
          <p:nvPr/>
        </p:nvSpPr>
        <p:spPr>
          <a:xfrm>
            <a:off x="234720" y="4648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二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以整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18" name="组合 40" descr=""/>
          <p:cNvPicPr/>
          <p:nvPr/>
        </p:nvPicPr>
        <p:blipFill>
          <a:blip r:embed="rId1"/>
          <a:stretch/>
        </p:blipFill>
        <p:spPr>
          <a:xfrm>
            <a:off x="1882800" y="2932200"/>
            <a:ext cx="1727280" cy="1226880"/>
          </a:xfrm>
          <a:prstGeom prst="rect">
            <a:avLst/>
          </a:prstGeom>
          <a:ln w="0">
            <a:noFill/>
          </a:ln>
        </p:spPr>
      </p:pic>
      <p:grpSp>
        <p:nvGrpSpPr>
          <p:cNvPr id="1519" name="组合 20522"/>
          <p:cNvGrpSpPr/>
          <p:nvPr/>
        </p:nvGrpSpPr>
        <p:grpSpPr>
          <a:xfrm>
            <a:off x="965160" y="2176560"/>
            <a:ext cx="6649920" cy="815040"/>
            <a:chOff x="965160" y="2176560"/>
            <a:chExt cx="6649920" cy="815040"/>
          </a:xfrm>
        </p:grpSpPr>
        <p:sp>
          <p:nvSpPr>
            <p:cNvPr id="1520" name="TextBox 7"/>
            <p:cNvSpPr/>
            <p:nvPr/>
          </p:nvSpPr>
          <p:spPr>
            <a:xfrm>
              <a:off x="965160" y="229536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把一张纸的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1" name="TextBox 8"/>
            <p:cNvSpPr/>
            <p:nvPr/>
          </p:nvSpPr>
          <p:spPr>
            <a:xfrm>
              <a:off x="2614680" y="2338560"/>
              <a:ext cx="50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平均分成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每份是这张纸的几分之几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22" name="组合 20486"/>
            <p:cNvGrpSpPr/>
            <p:nvPr/>
          </p:nvGrpSpPr>
          <p:grpSpPr>
            <a:xfrm>
              <a:off x="2363760" y="2176560"/>
              <a:ext cx="511200" cy="815040"/>
              <a:chOff x="2363760" y="2176560"/>
              <a:chExt cx="511200" cy="815040"/>
            </a:xfrm>
          </p:grpSpPr>
          <p:sp>
            <p:nvSpPr>
              <p:cNvPr id="1523" name="文本框 20487"/>
              <p:cNvSpPr/>
              <p:nvPr/>
            </p:nvSpPr>
            <p:spPr>
              <a:xfrm>
                <a:off x="2370240" y="2531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4" name="文本框 20488"/>
              <p:cNvSpPr/>
              <p:nvPr/>
            </p:nvSpPr>
            <p:spPr>
              <a:xfrm>
                <a:off x="2363760" y="2176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5" name="直接连接符 20489"/>
              <p:cNvSpPr/>
              <p:nvPr/>
            </p:nvSpPr>
            <p:spPr>
              <a:xfrm>
                <a:off x="2379600" y="2595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26" name="组合 20490"/>
          <p:cNvGrpSpPr/>
          <p:nvPr/>
        </p:nvGrpSpPr>
        <p:grpSpPr>
          <a:xfrm>
            <a:off x="257040" y="5124600"/>
            <a:ext cx="8750160" cy="1053000"/>
            <a:chOff x="257040" y="5124600"/>
            <a:chExt cx="8750160" cy="1053000"/>
          </a:xfrm>
        </p:grpSpPr>
        <p:sp>
          <p:nvSpPr>
            <p:cNvPr id="1527" name="Rectangle 2"/>
            <p:cNvSpPr/>
            <p:nvPr/>
          </p:nvSpPr>
          <p:spPr>
            <a:xfrm>
              <a:off x="257040" y="5124600"/>
              <a:ext cx="87501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请看上面的问题，和我们以前学过的什么知识有关系？（平均分，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求一份是多少） 你能列出算式吗？（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÷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28" name="组合 20492"/>
            <p:cNvGrpSpPr/>
            <p:nvPr/>
          </p:nvGrpSpPr>
          <p:grpSpPr>
            <a:xfrm>
              <a:off x="5311440" y="5362560"/>
              <a:ext cx="511200" cy="815040"/>
              <a:chOff x="5311440" y="5362560"/>
              <a:chExt cx="511200" cy="815040"/>
            </a:xfrm>
          </p:grpSpPr>
          <p:sp>
            <p:nvSpPr>
              <p:cNvPr id="1529" name="文本框 20493"/>
              <p:cNvSpPr/>
              <p:nvPr/>
            </p:nvSpPr>
            <p:spPr>
              <a:xfrm>
                <a:off x="5317920" y="5717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0" name="文本框 20494"/>
              <p:cNvSpPr/>
              <p:nvPr/>
            </p:nvSpPr>
            <p:spPr>
              <a:xfrm>
                <a:off x="5311440" y="5362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1" name="直接连接符 20495"/>
              <p:cNvSpPr/>
              <p:nvPr/>
            </p:nvSpPr>
            <p:spPr>
              <a:xfrm>
                <a:off x="5327280" y="5781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32" name="组合 21"/>
          <p:cNvGrpSpPr/>
          <p:nvPr/>
        </p:nvGrpSpPr>
        <p:grpSpPr>
          <a:xfrm>
            <a:off x="1892160" y="2933640"/>
            <a:ext cx="2143080" cy="1214640"/>
            <a:chOff x="1892160" y="2933640"/>
            <a:chExt cx="2143080" cy="1214640"/>
          </a:xfrm>
        </p:grpSpPr>
        <p:sp>
          <p:nvSpPr>
            <p:cNvPr id="1533" name="矩形 16"/>
            <p:cNvSpPr/>
            <p:nvPr/>
          </p:nvSpPr>
          <p:spPr>
            <a:xfrm>
              <a:off x="1892160" y="2933640"/>
              <a:ext cx="428400" cy="121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4" name="矩形 17"/>
            <p:cNvSpPr/>
            <p:nvPr/>
          </p:nvSpPr>
          <p:spPr>
            <a:xfrm>
              <a:off x="2320560" y="2933640"/>
              <a:ext cx="428400" cy="121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5" name="矩形 18"/>
            <p:cNvSpPr/>
            <p:nvPr/>
          </p:nvSpPr>
          <p:spPr>
            <a:xfrm>
              <a:off x="2749320" y="2933640"/>
              <a:ext cx="428400" cy="121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6" name="矩形 19"/>
            <p:cNvSpPr/>
            <p:nvPr/>
          </p:nvSpPr>
          <p:spPr>
            <a:xfrm>
              <a:off x="3178080" y="2933640"/>
              <a:ext cx="428400" cy="121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7" name="矩形 20"/>
            <p:cNvSpPr/>
            <p:nvPr/>
          </p:nvSpPr>
          <p:spPr>
            <a:xfrm>
              <a:off x="3606840" y="2933640"/>
              <a:ext cx="428400" cy="121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38" name="组合 20521"/>
          <p:cNvGrpSpPr/>
          <p:nvPr/>
        </p:nvGrpSpPr>
        <p:grpSpPr>
          <a:xfrm>
            <a:off x="-36360" y="4259160"/>
            <a:ext cx="8750160" cy="824760"/>
            <a:chOff x="-36360" y="4259160"/>
            <a:chExt cx="8750160" cy="824760"/>
          </a:xfrm>
        </p:grpSpPr>
        <p:sp>
          <p:nvSpPr>
            <p:cNvPr id="1539" name="Rectangle 2"/>
            <p:cNvSpPr/>
            <p:nvPr/>
          </p:nvSpPr>
          <p:spPr>
            <a:xfrm>
              <a:off x="-36360" y="4362480"/>
              <a:ext cx="87501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问题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你能用阴影表示出这张纸的     吗？（学生画出长方形纸的     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40" name="组合 20504"/>
            <p:cNvGrpSpPr/>
            <p:nvPr/>
          </p:nvGrpSpPr>
          <p:grpSpPr>
            <a:xfrm>
              <a:off x="4183200" y="4268880"/>
              <a:ext cx="511200" cy="815040"/>
              <a:chOff x="4183200" y="4268880"/>
              <a:chExt cx="511200" cy="815040"/>
            </a:xfrm>
          </p:grpSpPr>
          <p:sp>
            <p:nvSpPr>
              <p:cNvPr id="1541" name="文本框 20505"/>
              <p:cNvSpPr/>
              <p:nvPr/>
            </p:nvSpPr>
            <p:spPr>
              <a:xfrm>
                <a:off x="4189680" y="4624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2" name="文本框 20506"/>
              <p:cNvSpPr/>
              <p:nvPr/>
            </p:nvSpPr>
            <p:spPr>
              <a:xfrm>
                <a:off x="4183200" y="4268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3" name="直接连接符 20507"/>
              <p:cNvSpPr/>
              <p:nvPr/>
            </p:nvSpPr>
            <p:spPr>
              <a:xfrm>
                <a:off x="4199040" y="46879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44" name="组合 20508"/>
            <p:cNvGrpSpPr/>
            <p:nvPr/>
          </p:nvGrpSpPr>
          <p:grpSpPr>
            <a:xfrm>
              <a:off x="7648560" y="4259160"/>
              <a:ext cx="511200" cy="815040"/>
              <a:chOff x="7648560" y="4259160"/>
              <a:chExt cx="511200" cy="815040"/>
            </a:xfrm>
          </p:grpSpPr>
          <p:sp>
            <p:nvSpPr>
              <p:cNvPr id="1545" name="文本框 20509"/>
              <p:cNvSpPr/>
              <p:nvPr/>
            </p:nvSpPr>
            <p:spPr>
              <a:xfrm>
                <a:off x="7655040" y="4614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6" name="文本框 20510"/>
              <p:cNvSpPr/>
              <p:nvPr/>
            </p:nvSpPr>
            <p:spPr>
              <a:xfrm>
                <a:off x="7648560" y="4259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7" name="直接连接符 20511"/>
              <p:cNvSpPr/>
              <p:nvPr/>
            </p:nvSpPr>
            <p:spPr>
              <a:xfrm>
                <a:off x="7664400" y="46782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48" name="组合 20512"/>
          <p:cNvGrpSpPr/>
          <p:nvPr/>
        </p:nvGrpSpPr>
        <p:grpSpPr>
          <a:xfrm>
            <a:off x="255600" y="5950080"/>
            <a:ext cx="8750160" cy="815040"/>
            <a:chOff x="255600" y="5950080"/>
            <a:chExt cx="8750160" cy="815040"/>
          </a:xfrm>
        </p:grpSpPr>
        <p:sp>
          <p:nvSpPr>
            <p:cNvPr id="1549" name="Rectangle 2"/>
            <p:cNvSpPr/>
            <p:nvPr/>
          </p:nvSpPr>
          <p:spPr>
            <a:xfrm>
              <a:off x="255600" y="6006960"/>
              <a:ext cx="875016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借助手中的学具，折一折，画一画，表示出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÷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的意义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50" name="组合 20514"/>
            <p:cNvGrpSpPr/>
            <p:nvPr/>
          </p:nvGrpSpPr>
          <p:grpSpPr>
            <a:xfrm>
              <a:off x="6059160" y="5950080"/>
              <a:ext cx="510480" cy="815040"/>
              <a:chOff x="6059160" y="5950080"/>
              <a:chExt cx="510480" cy="815040"/>
            </a:xfrm>
          </p:grpSpPr>
          <p:sp>
            <p:nvSpPr>
              <p:cNvPr id="1551" name="文本框 20515"/>
              <p:cNvSpPr/>
              <p:nvPr/>
            </p:nvSpPr>
            <p:spPr>
              <a:xfrm>
                <a:off x="6065280" y="63054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2" name="文本框 20516"/>
              <p:cNvSpPr/>
              <p:nvPr/>
            </p:nvSpPr>
            <p:spPr>
              <a:xfrm>
                <a:off x="6059160" y="59500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3" name="直接连接符 20517"/>
              <p:cNvSpPr/>
              <p:nvPr/>
            </p:nvSpPr>
            <p:spPr>
              <a:xfrm>
                <a:off x="6074640" y="63691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54" name="TextBox 6"/>
          <p:cNvSpPr/>
          <p:nvPr/>
        </p:nvSpPr>
        <p:spPr>
          <a:xfrm>
            <a:off x="395280" y="1413000"/>
            <a:ext cx="5977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引入情境，探究新知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5" name="矩形 20519"/>
          <p:cNvSpPr/>
          <p:nvPr/>
        </p:nvSpPr>
        <p:spPr>
          <a:xfrm>
            <a:off x="18720" y="4432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2"/>
          <p:cNvSpPr/>
          <p:nvPr/>
        </p:nvSpPr>
        <p:spPr>
          <a:xfrm>
            <a:off x="214200" y="4857840"/>
            <a:ext cx="84297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用算式表示出刚才折或画的过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7" name="Rectangle 2"/>
          <p:cNvSpPr/>
          <p:nvPr/>
        </p:nvSpPr>
        <p:spPr>
          <a:xfrm>
            <a:off x="1000080" y="5357880"/>
            <a:ext cx="84297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结合画好的图，说说你的计算过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58" name="组合 21507"/>
          <p:cNvGrpSpPr/>
          <p:nvPr/>
        </p:nvGrpSpPr>
        <p:grpSpPr>
          <a:xfrm>
            <a:off x="1187280" y="2060640"/>
            <a:ext cx="6650280" cy="815040"/>
            <a:chOff x="1187280" y="2060640"/>
            <a:chExt cx="6650280" cy="815040"/>
          </a:xfrm>
        </p:grpSpPr>
        <p:sp>
          <p:nvSpPr>
            <p:cNvPr id="1559" name="TextBox 7"/>
            <p:cNvSpPr/>
            <p:nvPr/>
          </p:nvSpPr>
          <p:spPr>
            <a:xfrm>
              <a:off x="1187280" y="2179800"/>
              <a:ext cx="16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把一张纸的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60" name="TextBox 8"/>
            <p:cNvSpPr/>
            <p:nvPr/>
          </p:nvSpPr>
          <p:spPr>
            <a:xfrm>
              <a:off x="2836800" y="2222640"/>
              <a:ext cx="50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平均分成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每份是这张纸的几分之几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61" name="组合 21510"/>
            <p:cNvGrpSpPr/>
            <p:nvPr/>
          </p:nvGrpSpPr>
          <p:grpSpPr>
            <a:xfrm>
              <a:off x="2585880" y="2060640"/>
              <a:ext cx="511200" cy="815040"/>
              <a:chOff x="2585880" y="2060640"/>
              <a:chExt cx="511200" cy="815040"/>
            </a:xfrm>
          </p:grpSpPr>
          <p:sp>
            <p:nvSpPr>
              <p:cNvPr id="1562" name="文本框 21511"/>
              <p:cNvSpPr/>
              <p:nvPr/>
            </p:nvSpPr>
            <p:spPr>
              <a:xfrm>
                <a:off x="2592360" y="2415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3" name="文本框 21512"/>
              <p:cNvSpPr/>
              <p:nvPr/>
            </p:nvSpPr>
            <p:spPr>
              <a:xfrm>
                <a:off x="2585880" y="2060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4" name="直接连接符 21513"/>
              <p:cNvSpPr/>
              <p:nvPr/>
            </p:nvSpPr>
            <p:spPr>
              <a:xfrm>
                <a:off x="2601720" y="2479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65" name="组合 21514"/>
          <p:cNvGrpSpPr/>
          <p:nvPr/>
        </p:nvGrpSpPr>
        <p:grpSpPr>
          <a:xfrm>
            <a:off x="1332000" y="4005360"/>
            <a:ext cx="2597760" cy="1009800"/>
            <a:chOff x="1332000" y="4005360"/>
            <a:chExt cx="2597760" cy="1009800"/>
          </a:xfrm>
        </p:grpSpPr>
        <p:grpSp>
          <p:nvGrpSpPr>
            <p:cNvPr id="1566" name="组合 21515"/>
            <p:cNvGrpSpPr/>
            <p:nvPr/>
          </p:nvGrpSpPr>
          <p:grpSpPr>
            <a:xfrm>
              <a:off x="1332000" y="4025880"/>
              <a:ext cx="510480" cy="815040"/>
              <a:chOff x="1332000" y="4025880"/>
              <a:chExt cx="510480" cy="815040"/>
            </a:xfrm>
          </p:grpSpPr>
          <p:sp>
            <p:nvSpPr>
              <p:cNvPr id="1567" name="文本框 21516"/>
              <p:cNvSpPr/>
              <p:nvPr/>
            </p:nvSpPr>
            <p:spPr>
              <a:xfrm>
                <a:off x="1338120" y="43812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8" name="文本框 21517"/>
              <p:cNvSpPr/>
              <p:nvPr/>
            </p:nvSpPr>
            <p:spPr>
              <a:xfrm>
                <a:off x="1332000" y="40258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9" name="直接连接符 21518"/>
              <p:cNvSpPr/>
              <p:nvPr/>
            </p:nvSpPr>
            <p:spPr>
              <a:xfrm>
                <a:off x="1347480" y="44449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70" name="文本框 21519"/>
            <p:cNvSpPr/>
            <p:nvPr/>
          </p:nvSpPr>
          <p:spPr>
            <a:xfrm>
              <a:off x="1562040" y="4189680"/>
              <a:ext cx="20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÷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            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71" name="组合 21520"/>
            <p:cNvGrpSpPr/>
            <p:nvPr/>
          </p:nvGrpSpPr>
          <p:grpSpPr>
            <a:xfrm>
              <a:off x="2382480" y="4014720"/>
              <a:ext cx="893520" cy="815400"/>
              <a:chOff x="2382480" y="4014720"/>
              <a:chExt cx="893520" cy="815400"/>
            </a:xfrm>
          </p:grpSpPr>
          <p:sp>
            <p:nvSpPr>
              <p:cNvPr id="1572" name="文本框 21521"/>
              <p:cNvSpPr/>
              <p:nvPr/>
            </p:nvSpPr>
            <p:spPr>
              <a:xfrm>
                <a:off x="2607840" y="43704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3" name="文本框 21522"/>
              <p:cNvSpPr/>
              <p:nvPr/>
            </p:nvSpPr>
            <p:spPr>
              <a:xfrm>
                <a:off x="2382480" y="4014720"/>
                <a:ext cx="89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÷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4" name="直接连接符 21523"/>
              <p:cNvSpPr/>
              <p:nvPr/>
            </p:nvSpPr>
            <p:spPr>
              <a:xfrm>
                <a:off x="2398320" y="4434120"/>
                <a:ext cx="659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75" name="组合 21524"/>
            <p:cNvGrpSpPr/>
            <p:nvPr/>
          </p:nvGrpSpPr>
          <p:grpSpPr>
            <a:xfrm>
              <a:off x="3419280" y="4005360"/>
              <a:ext cx="510480" cy="815040"/>
              <a:chOff x="3419280" y="4005360"/>
              <a:chExt cx="510480" cy="815040"/>
            </a:xfrm>
          </p:grpSpPr>
          <p:sp>
            <p:nvSpPr>
              <p:cNvPr id="1576" name="文本框 21525"/>
              <p:cNvSpPr/>
              <p:nvPr/>
            </p:nvSpPr>
            <p:spPr>
              <a:xfrm>
                <a:off x="3425400" y="43606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7" name="文本框 21526"/>
              <p:cNvSpPr/>
              <p:nvPr/>
            </p:nvSpPr>
            <p:spPr>
              <a:xfrm>
                <a:off x="3419280" y="40053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8" name="直接连接符 21527"/>
              <p:cNvSpPr/>
              <p:nvPr/>
            </p:nvSpPr>
            <p:spPr>
              <a:xfrm>
                <a:off x="3434760" y="44244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79" name="组合 21"/>
          <p:cNvGrpSpPr/>
          <p:nvPr/>
        </p:nvGrpSpPr>
        <p:grpSpPr>
          <a:xfrm>
            <a:off x="1403280" y="2781360"/>
            <a:ext cx="2143080" cy="1214280"/>
            <a:chOff x="1403280" y="2781360"/>
            <a:chExt cx="2143080" cy="1214280"/>
          </a:xfrm>
        </p:grpSpPr>
        <p:sp>
          <p:nvSpPr>
            <p:cNvPr id="1580" name="矩形 16"/>
            <p:cNvSpPr/>
            <p:nvPr/>
          </p:nvSpPr>
          <p:spPr>
            <a:xfrm>
              <a:off x="1403280" y="2781360"/>
              <a:ext cx="428400" cy="121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1" name="矩形 17"/>
            <p:cNvSpPr/>
            <p:nvPr/>
          </p:nvSpPr>
          <p:spPr>
            <a:xfrm>
              <a:off x="1831680" y="2781360"/>
              <a:ext cx="428400" cy="121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2" name="矩形 18"/>
            <p:cNvSpPr/>
            <p:nvPr/>
          </p:nvSpPr>
          <p:spPr>
            <a:xfrm>
              <a:off x="2260440" y="2781360"/>
              <a:ext cx="428400" cy="121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3" name="矩形 19"/>
            <p:cNvSpPr/>
            <p:nvPr/>
          </p:nvSpPr>
          <p:spPr>
            <a:xfrm>
              <a:off x="2689200" y="2781360"/>
              <a:ext cx="428400" cy="121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4" name="矩形 20"/>
            <p:cNvSpPr/>
            <p:nvPr/>
          </p:nvSpPr>
          <p:spPr>
            <a:xfrm>
              <a:off x="3117960" y="2781360"/>
              <a:ext cx="428400" cy="121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85" name="组合 21534"/>
          <p:cNvGrpSpPr/>
          <p:nvPr/>
        </p:nvGrpSpPr>
        <p:grpSpPr>
          <a:xfrm>
            <a:off x="1403280" y="2781360"/>
            <a:ext cx="1714680" cy="1214280"/>
            <a:chOff x="1403280" y="2781360"/>
            <a:chExt cx="1714680" cy="1214280"/>
          </a:xfrm>
        </p:grpSpPr>
        <p:sp>
          <p:nvSpPr>
            <p:cNvPr id="1586" name="矩形 16"/>
            <p:cNvSpPr/>
            <p:nvPr/>
          </p:nvSpPr>
          <p:spPr>
            <a:xfrm>
              <a:off x="1403280" y="2781360"/>
              <a:ext cx="428760" cy="12142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7" name="矩形 17"/>
            <p:cNvSpPr/>
            <p:nvPr/>
          </p:nvSpPr>
          <p:spPr>
            <a:xfrm>
              <a:off x="1832040" y="2781360"/>
              <a:ext cx="428400" cy="12142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8" name="矩形 18"/>
            <p:cNvSpPr/>
            <p:nvPr/>
          </p:nvSpPr>
          <p:spPr>
            <a:xfrm>
              <a:off x="2260440" y="2781360"/>
              <a:ext cx="428760" cy="12142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9" name="矩形 19"/>
            <p:cNvSpPr/>
            <p:nvPr/>
          </p:nvSpPr>
          <p:spPr>
            <a:xfrm>
              <a:off x="2689200" y="2781360"/>
              <a:ext cx="428760" cy="12142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90" name="组合 21539"/>
          <p:cNvGrpSpPr/>
          <p:nvPr/>
        </p:nvGrpSpPr>
        <p:grpSpPr>
          <a:xfrm>
            <a:off x="5311800" y="2708280"/>
            <a:ext cx="2143080" cy="1214280"/>
            <a:chOff x="5311800" y="2708280"/>
            <a:chExt cx="2143080" cy="1214280"/>
          </a:xfrm>
        </p:grpSpPr>
        <p:grpSp>
          <p:nvGrpSpPr>
            <p:cNvPr id="1591" name="组合 21540"/>
            <p:cNvGrpSpPr/>
            <p:nvPr/>
          </p:nvGrpSpPr>
          <p:grpSpPr>
            <a:xfrm>
              <a:off x="5311800" y="2708280"/>
              <a:ext cx="2143080" cy="1214280"/>
              <a:chOff x="5311800" y="2708280"/>
              <a:chExt cx="2143080" cy="1214280"/>
            </a:xfrm>
          </p:grpSpPr>
          <p:grpSp>
            <p:nvGrpSpPr>
              <p:cNvPr id="1592" name="组合 21"/>
              <p:cNvGrpSpPr/>
              <p:nvPr/>
            </p:nvGrpSpPr>
            <p:grpSpPr>
              <a:xfrm>
                <a:off x="5311800" y="2708280"/>
                <a:ext cx="2143080" cy="1214280"/>
                <a:chOff x="5311800" y="2708280"/>
                <a:chExt cx="2143080" cy="1214280"/>
              </a:xfrm>
            </p:grpSpPr>
            <p:sp>
              <p:nvSpPr>
                <p:cNvPr id="1593" name="矩形 16"/>
                <p:cNvSpPr/>
                <p:nvPr/>
              </p:nvSpPr>
              <p:spPr>
                <a:xfrm>
                  <a:off x="5311800" y="2708280"/>
                  <a:ext cx="428400" cy="121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94" name="矩形 17"/>
                <p:cNvSpPr/>
                <p:nvPr/>
              </p:nvSpPr>
              <p:spPr>
                <a:xfrm>
                  <a:off x="5740200" y="2708280"/>
                  <a:ext cx="428400" cy="121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95" name="矩形 18"/>
                <p:cNvSpPr/>
                <p:nvPr/>
              </p:nvSpPr>
              <p:spPr>
                <a:xfrm>
                  <a:off x="6168960" y="2708280"/>
                  <a:ext cx="428400" cy="121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96" name="矩形 19"/>
                <p:cNvSpPr/>
                <p:nvPr/>
              </p:nvSpPr>
              <p:spPr>
                <a:xfrm>
                  <a:off x="6597720" y="2708280"/>
                  <a:ext cx="428400" cy="121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97" name="矩形 20"/>
                <p:cNvSpPr/>
                <p:nvPr/>
              </p:nvSpPr>
              <p:spPr>
                <a:xfrm>
                  <a:off x="7026480" y="2708280"/>
                  <a:ext cx="428400" cy="121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598" name="直接连接符 21547"/>
              <p:cNvSpPr/>
              <p:nvPr/>
            </p:nvSpPr>
            <p:spPr>
              <a:xfrm>
                <a:off x="5317920" y="3303360"/>
                <a:ext cx="212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99" name="组合 21548"/>
            <p:cNvGrpSpPr/>
            <p:nvPr/>
          </p:nvGrpSpPr>
          <p:grpSpPr>
            <a:xfrm>
              <a:off x="5321160" y="2708280"/>
              <a:ext cx="1714680" cy="1214280"/>
              <a:chOff x="5321160" y="2708280"/>
              <a:chExt cx="1714680" cy="1214280"/>
            </a:xfrm>
          </p:grpSpPr>
          <p:sp>
            <p:nvSpPr>
              <p:cNvPr id="1600" name="矩形 16"/>
              <p:cNvSpPr/>
              <p:nvPr/>
            </p:nvSpPr>
            <p:spPr>
              <a:xfrm>
                <a:off x="5321160" y="2708280"/>
                <a:ext cx="428760" cy="121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1" name="矩形 17"/>
              <p:cNvSpPr/>
              <p:nvPr/>
            </p:nvSpPr>
            <p:spPr>
              <a:xfrm>
                <a:off x="5749920" y="2708280"/>
                <a:ext cx="428760" cy="121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2" name="矩形 18"/>
              <p:cNvSpPr/>
              <p:nvPr/>
            </p:nvSpPr>
            <p:spPr>
              <a:xfrm>
                <a:off x="6178680" y="2708280"/>
                <a:ext cx="428400" cy="121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3" name="矩形 19"/>
              <p:cNvSpPr/>
              <p:nvPr/>
            </p:nvSpPr>
            <p:spPr>
              <a:xfrm>
                <a:off x="6607080" y="2708280"/>
                <a:ext cx="428760" cy="121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4" name="矩形 16"/>
              <p:cNvSpPr/>
              <p:nvPr/>
            </p:nvSpPr>
            <p:spPr>
              <a:xfrm>
                <a:off x="5321160" y="2708280"/>
                <a:ext cx="428760" cy="610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5" name="矩形 16"/>
              <p:cNvSpPr/>
              <p:nvPr/>
            </p:nvSpPr>
            <p:spPr>
              <a:xfrm>
                <a:off x="5743440" y="2708280"/>
                <a:ext cx="428760" cy="610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6" name="矩形 16"/>
              <p:cNvSpPr/>
              <p:nvPr/>
            </p:nvSpPr>
            <p:spPr>
              <a:xfrm>
                <a:off x="6180120" y="2708280"/>
                <a:ext cx="428760" cy="610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7" name="矩形 16"/>
              <p:cNvSpPr/>
              <p:nvPr/>
            </p:nvSpPr>
            <p:spPr>
              <a:xfrm>
                <a:off x="6602400" y="2708280"/>
                <a:ext cx="428760" cy="610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08" name="组合 21557"/>
          <p:cNvGrpSpPr/>
          <p:nvPr/>
        </p:nvGrpSpPr>
        <p:grpSpPr>
          <a:xfrm>
            <a:off x="5219640" y="3914640"/>
            <a:ext cx="3371760" cy="1011240"/>
            <a:chOff x="5219640" y="3914640"/>
            <a:chExt cx="3371760" cy="1011240"/>
          </a:xfrm>
        </p:grpSpPr>
        <p:grpSp>
          <p:nvGrpSpPr>
            <p:cNvPr id="1609" name="组合 21558"/>
            <p:cNvGrpSpPr/>
            <p:nvPr/>
          </p:nvGrpSpPr>
          <p:grpSpPr>
            <a:xfrm>
              <a:off x="5219640" y="3936960"/>
              <a:ext cx="511200" cy="815040"/>
              <a:chOff x="5219640" y="3936960"/>
              <a:chExt cx="511200" cy="815040"/>
            </a:xfrm>
          </p:grpSpPr>
          <p:sp>
            <p:nvSpPr>
              <p:cNvPr id="1610" name="文本框 21559"/>
              <p:cNvSpPr/>
              <p:nvPr/>
            </p:nvSpPr>
            <p:spPr>
              <a:xfrm>
                <a:off x="5226120" y="42922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1" name="文本框 21560"/>
              <p:cNvSpPr/>
              <p:nvPr/>
            </p:nvSpPr>
            <p:spPr>
              <a:xfrm>
                <a:off x="5219640" y="39369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2" name="直接连接符 21561"/>
              <p:cNvSpPr/>
              <p:nvPr/>
            </p:nvSpPr>
            <p:spPr>
              <a:xfrm>
                <a:off x="5235480" y="43560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13" name="文本框 21562"/>
            <p:cNvSpPr/>
            <p:nvPr/>
          </p:nvSpPr>
          <p:spPr>
            <a:xfrm>
              <a:off x="5449680" y="4100400"/>
              <a:ext cx="279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÷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      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14" name="组合 21563"/>
            <p:cNvGrpSpPr/>
            <p:nvPr/>
          </p:nvGrpSpPr>
          <p:grpSpPr>
            <a:xfrm>
              <a:off x="8080200" y="3914640"/>
              <a:ext cx="511200" cy="815040"/>
              <a:chOff x="8080200" y="3914640"/>
              <a:chExt cx="511200" cy="815040"/>
            </a:xfrm>
          </p:grpSpPr>
          <p:sp>
            <p:nvSpPr>
              <p:cNvPr id="1615" name="文本框 21564"/>
              <p:cNvSpPr/>
              <p:nvPr/>
            </p:nvSpPr>
            <p:spPr>
              <a:xfrm>
                <a:off x="8086680" y="4269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6" name="文本框 21565"/>
              <p:cNvSpPr/>
              <p:nvPr/>
            </p:nvSpPr>
            <p:spPr>
              <a:xfrm>
                <a:off x="8080200" y="3914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7" name="直接连接符 21566"/>
              <p:cNvSpPr/>
              <p:nvPr/>
            </p:nvSpPr>
            <p:spPr>
              <a:xfrm>
                <a:off x="8096040" y="4333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18" name="组合 21567"/>
            <p:cNvGrpSpPr/>
            <p:nvPr/>
          </p:nvGrpSpPr>
          <p:grpSpPr>
            <a:xfrm>
              <a:off x="6208560" y="3916440"/>
              <a:ext cx="511200" cy="815040"/>
              <a:chOff x="6208560" y="3916440"/>
              <a:chExt cx="511200" cy="815040"/>
            </a:xfrm>
          </p:grpSpPr>
          <p:sp>
            <p:nvSpPr>
              <p:cNvPr id="1619" name="文本框 21568"/>
              <p:cNvSpPr/>
              <p:nvPr/>
            </p:nvSpPr>
            <p:spPr>
              <a:xfrm>
                <a:off x="6215040" y="4271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0" name="文本框 21569"/>
              <p:cNvSpPr/>
              <p:nvPr/>
            </p:nvSpPr>
            <p:spPr>
              <a:xfrm>
                <a:off x="6208560" y="3916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1" name="直接连接符 21570"/>
              <p:cNvSpPr/>
              <p:nvPr/>
            </p:nvSpPr>
            <p:spPr>
              <a:xfrm>
                <a:off x="6224400" y="43354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22" name="组合 21571"/>
            <p:cNvGrpSpPr/>
            <p:nvPr/>
          </p:nvGrpSpPr>
          <p:grpSpPr>
            <a:xfrm>
              <a:off x="6827760" y="3916440"/>
              <a:ext cx="511200" cy="815040"/>
              <a:chOff x="6827760" y="3916440"/>
              <a:chExt cx="511200" cy="815040"/>
            </a:xfrm>
          </p:grpSpPr>
          <p:sp>
            <p:nvSpPr>
              <p:cNvPr id="1623" name="文本框 21572"/>
              <p:cNvSpPr/>
              <p:nvPr/>
            </p:nvSpPr>
            <p:spPr>
              <a:xfrm>
                <a:off x="6834240" y="4271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4" name="文本框 21573"/>
              <p:cNvSpPr/>
              <p:nvPr/>
            </p:nvSpPr>
            <p:spPr>
              <a:xfrm>
                <a:off x="6827760" y="3916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5" name="直接连接符 21574"/>
              <p:cNvSpPr/>
              <p:nvPr/>
            </p:nvSpPr>
            <p:spPr>
              <a:xfrm>
                <a:off x="6843600" y="43354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26" name="组合 21575"/>
            <p:cNvGrpSpPr/>
            <p:nvPr/>
          </p:nvGrpSpPr>
          <p:grpSpPr>
            <a:xfrm>
              <a:off x="7361280" y="3916440"/>
              <a:ext cx="504720" cy="815040"/>
              <a:chOff x="7361280" y="3916440"/>
              <a:chExt cx="504720" cy="815040"/>
            </a:xfrm>
          </p:grpSpPr>
          <p:sp>
            <p:nvSpPr>
              <p:cNvPr id="1627" name="文本框 21576"/>
              <p:cNvSpPr/>
              <p:nvPr/>
            </p:nvSpPr>
            <p:spPr>
              <a:xfrm>
                <a:off x="7361280" y="4271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8" name="文本框 21577"/>
              <p:cNvSpPr/>
              <p:nvPr/>
            </p:nvSpPr>
            <p:spPr>
              <a:xfrm>
                <a:off x="7450200" y="3916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9" name="直接连接符 21578"/>
              <p:cNvSpPr/>
              <p:nvPr/>
            </p:nvSpPr>
            <p:spPr>
              <a:xfrm>
                <a:off x="7427880" y="43351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30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二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以整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1" name="TextBox 6"/>
          <p:cNvSpPr/>
          <p:nvPr/>
        </p:nvSpPr>
        <p:spPr>
          <a:xfrm>
            <a:off x="395280" y="1413000"/>
            <a:ext cx="5977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引入情境，探究新知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2" name="矩形 21581"/>
          <p:cNvSpPr/>
          <p:nvPr/>
        </p:nvSpPr>
        <p:spPr>
          <a:xfrm>
            <a:off x="18720" y="4432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3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634" name="图片 22530" descr=""/>
          <p:cNvPicPr/>
          <p:nvPr/>
        </p:nvPicPr>
        <p:blipFill>
          <a:blip r:embed="rId2"/>
          <a:stretch/>
        </p:blipFill>
        <p:spPr>
          <a:xfrm>
            <a:off x="343080" y="271440"/>
            <a:ext cx="8400960" cy="62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TextBox 6"/>
          <p:cNvSpPr/>
          <p:nvPr/>
        </p:nvSpPr>
        <p:spPr>
          <a:xfrm>
            <a:off x="395280" y="1413000"/>
            <a:ext cx="6087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自主操作，深入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6" name="Rectangle 2"/>
          <p:cNvSpPr/>
          <p:nvPr/>
        </p:nvSpPr>
        <p:spPr>
          <a:xfrm>
            <a:off x="142920" y="4572000"/>
            <a:ext cx="84297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用算式表示出刚才折或画的过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7" name="Rectangle 2"/>
          <p:cNvSpPr/>
          <p:nvPr/>
        </p:nvSpPr>
        <p:spPr>
          <a:xfrm>
            <a:off x="447840" y="5753160"/>
            <a:ext cx="8429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比较两种解法，你有什么想法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8" name="Rectangle 2"/>
          <p:cNvSpPr/>
          <p:nvPr/>
        </p:nvSpPr>
        <p:spPr>
          <a:xfrm>
            <a:off x="919080" y="5095800"/>
            <a:ext cx="84297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结合画好的图，说说你的计算过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出示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时）你遇到了什么问题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9" name="矩形 29"/>
          <p:cNvSpPr/>
          <p:nvPr/>
        </p:nvSpPr>
        <p:spPr>
          <a:xfrm>
            <a:off x="855720" y="622764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根据上面的折纸实验和算式，你能发现什么规律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0" name="矩形 22"/>
          <p:cNvSpPr/>
          <p:nvPr/>
        </p:nvSpPr>
        <p:spPr>
          <a:xfrm>
            <a:off x="5003640" y="544680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出示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说说你的想法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41" name="组合 23559"/>
          <p:cNvGrpSpPr/>
          <p:nvPr/>
        </p:nvGrpSpPr>
        <p:grpSpPr>
          <a:xfrm>
            <a:off x="1187280" y="1989000"/>
            <a:ext cx="6650280" cy="815040"/>
            <a:chOff x="1187280" y="1989000"/>
            <a:chExt cx="6650280" cy="815040"/>
          </a:xfrm>
        </p:grpSpPr>
        <p:sp>
          <p:nvSpPr>
            <p:cNvPr id="1642" name="TextBox 7"/>
            <p:cNvSpPr/>
            <p:nvPr/>
          </p:nvSpPr>
          <p:spPr>
            <a:xfrm>
              <a:off x="1187280" y="2108160"/>
              <a:ext cx="16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把一张纸的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3" name="TextBox 8"/>
            <p:cNvSpPr/>
            <p:nvPr/>
          </p:nvSpPr>
          <p:spPr>
            <a:xfrm>
              <a:off x="2836800" y="2151000"/>
              <a:ext cx="50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平均分成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每份是这张纸的几分之几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44" name="组合 23562"/>
            <p:cNvGrpSpPr/>
            <p:nvPr/>
          </p:nvGrpSpPr>
          <p:grpSpPr>
            <a:xfrm>
              <a:off x="2585880" y="1989000"/>
              <a:ext cx="511200" cy="815040"/>
              <a:chOff x="2585880" y="1989000"/>
              <a:chExt cx="511200" cy="815040"/>
            </a:xfrm>
          </p:grpSpPr>
          <p:sp>
            <p:nvSpPr>
              <p:cNvPr id="1645" name="文本框 23563"/>
              <p:cNvSpPr/>
              <p:nvPr/>
            </p:nvSpPr>
            <p:spPr>
              <a:xfrm>
                <a:off x="2592360" y="2344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6" name="文本框 23564"/>
              <p:cNvSpPr/>
              <p:nvPr/>
            </p:nvSpPr>
            <p:spPr>
              <a:xfrm>
                <a:off x="2585880" y="198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7" name="直接连接符 23565"/>
              <p:cNvSpPr/>
              <p:nvPr/>
            </p:nvSpPr>
            <p:spPr>
              <a:xfrm>
                <a:off x="2601720" y="2408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1648" name="图片 23566" descr="30"/>
          <p:cNvPicPr/>
          <p:nvPr/>
        </p:nvPicPr>
        <p:blipFill>
          <a:blip r:embed="rId1"/>
          <a:stretch/>
        </p:blipFill>
        <p:spPr>
          <a:xfrm>
            <a:off x="1177920" y="2743200"/>
            <a:ext cx="2324160" cy="1438200"/>
          </a:xfrm>
          <a:prstGeom prst="rect">
            <a:avLst/>
          </a:prstGeom>
          <a:ln w="0">
            <a:noFill/>
          </a:ln>
        </p:spPr>
      </p:pic>
      <p:grpSp>
        <p:nvGrpSpPr>
          <p:cNvPr id="1649" name="组合 23567"/>
          <p:cNvGrpSpPr/>
          <p:nvPr/>
        </p:nvGrpSpPr>
        <p:grpSpPr>
          <a:xfrm>
            <a:off x="4357800" y="2556000"/>
            <a:ext cx="3958920" cy="1000080"/>
            <a:chOff x="4357800" y="2556000"/>
            <a:chExt cx="3958920" cy="1000080"/>
          </a:xfrm>
        </p:grpSpPr>
        <p:sp>
          <p:nvSpPr>
            <p:cNvPr id="1650" name="TextBox 6"/>
            <p:cNvSpPr/>
            <p:nvPr/>
          </p:nvSpPr>
          <p:spPr>
            <a:xfrm>
              <a:off x="4357800" y="27320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51" name="组合 23569"/>
            <p:cNvGrpSpPr/>
            <p:nvPr/>
          </p:nvGrpSpPr>
          <p:grpSpPr>
            <a:xfrm>
              <a:off x="5364000" y="2556000"/>
              <a:ext cx="2952720" cy="1000080"/>
              <a:chOff x="5364000" y="2556000"/>
              <a:chExt cx="2952720" cy="1000080"/>
            </a:xfrm>
          </p:grpSpPr>
          <p:grpSp>
            <p:nvGrpSpPr>
              <p:cNvPr id="1652" name="组合 23570"/>
              <p:cNvGrpSpPr/>
              <p:nvPr/>
            </p:nvGrpSpPr>
            <p:grpSpPr>
              <a:xfrm>
                <a:off x="5364000" y="2567160"/>
                <a:ext cx="511200" cy="815040"/>
                <a:chOff x="5364000" y="2567160"/>
                <a:chExt cx="511200" cy="815040"/>
              </a:xfrm>
            </p:grpSpPr>
            <p:sp>
              <p:nvSpPr>
                <p:cNvPr id="1653" name="文本框 23571"/>
                <p:cNvSpPr/>
                <p:nvPr/>
              </p:nvSpPr>
              <p:spPr>
                <a:xfrm>
                  <a:off x="5370480" y="29224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54" name="文本框 23572"/>
                <p:cNvSpPr/>
                <p:nvPr/>
              </p:nvSpPr>
              <p:spPr>
                <a:xfrm>
                  <a:off x="5364000" y="25671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55" name="直接连接符 23573"/>
                <p:cNvSpPr/>
                <p:nvPr/>
              </p:nvSpPr>
              <p:spPr>
                <a:xfrm>
                  <a:off x="5379840" y="298620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56" name="文本框 23574"/>
              <p:cNvSpPr/>
              <p:nvPr/>
            </p:nvSpPr>
            <p:spPr>
              <a:xfrm>
                <a:off x="5594400" y="2730600"/>
                <a:ext cx="2722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÷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            ＝？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657" name="组合 23575"/>
              <p:cNvGrpSpPr/>
              <p:nvPr/>
            </p:nvGrpSpPr>
            <p:grpSpPr>
              <a:xfrm>
                <a:off x="6414840" y="2556000"/>
                <a:ext cx="893880" cy="815040"/>
                <a:chOff x="6414840" y="2556000"/>
                <a:chExt cx="893880" cy="815040"/>
              </a:xfrm>
            </p:grpSpPr>
            <p:sp>
              <p:nvSpPr>
                <p:cNvPr id="1658" name="文本框 23576"/>
                <p:cNvSpPr/>
                <p:nvPr/>
              </p:nvSpPr>
              <p:spPr>
                <a:xfrm>
                  <a:off x="6640560" y="29113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59" name="文本框 23577"/>
                <p:cNvSpPr/>
                <p:nvPr/>
              </p:nvSpPr>
              <p:spPr>
                <a:xfrm>
                  <a:off x="6414840" y="2556000"/>
                  <a:ext cx="89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÷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0" name="直接连接符 23578"/>
                <p:cNvSpPr/>
                <p:nvPr/>
              </p:nvSpPr>
              <p:spPr>
                <a:xfrm>
                  <a:off x="6431040" y="2975040"/>
                  <a:ext cx="660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1661" name="组合 23579"/>
          <p:cNvGrpSpPr/>
          <p:nvPr/>
        </p:nvGrpSpPr>
        <p:grpSpPr>
          <a:xfrm>
            <a:off x="4357800" y="3405240"/>
            <a:ext cx="4025880" cy="1009440"/>
            <a:chOff x="4357800" y="3405240"/>
            <a:chExt cx="4025880" cy="1009440"/>
          </a:xfrm>
        </p:grpSpPr>
        <p:sp>
          <p:nvSpPr>
            <p:cNvPr id="1662" name="TextBox 6"/>
            <p:cNvSpPr/>
            <p:nvPr/>
          </p:nvSpPr>
          <p:spPr>
            <a:xfrm>
              <a:off x="4357800" y="3589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63" name="组合 23581"/>
            <p:cNvGrpSpPr/>
            <p:nvPr/>
          </p:nvGrpSpPr>
          <p:grpSpPr>
            <a:xfrm>
              <a:off x="5359320" y="3405240"/>
              <a:ext cx="3024360" cy="1009440"/>
              <a:chOff x="5359320" y="3405240"/>
              <a:chExt cx="3024360" cy="1009440"/>
            </a:xfrm>
          </p:grpSpPr>
          <p:grpSp>
            <p:nvGrpSpPr>
              <p:cNvPr id="1664" name="组合 23582"/>
              <p:cNvGrpSpPr/>
              <p:nvPr/>
            </p:nvGrpSpPr>
            <p:grpSpPr>
              <a:xfrm>
                <a:off x="5359320" y="3425760"/>
                <a:ext cx="511200" cy="815040"/>
                <a:chOff x="5359320" y="3425760"/>
                <a:chExt cx="511200" cy="815040"/>
              </a:xfrm>
            </p:grpSpPr>
            <p:sp>
              <p:nvSpPr>
                <p:cNvPr id="1665" name="文本框 23583"/>
                <p:cNvSpPr/>
                <p:nvPr/>
              </p:nvSpPr>
              <p:spPr>
                <a:xfrm>
                  <a:off x="5365800" y="37810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6" name="文本框 23584"/>
                <p:cNvSpPr/>
                <p:nvPr/>
              </p:nvSpPr>
              <p:spPr>
                <a:xfrm>
                  <a:off x="5359320" y="34257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7" name="直接连接符 23585"/>
                <p:cNvSpPr/>
                <p:nvPr/>
              </p:nvSpPr>
              <p:spPr>
                <a:xfrm>
                  <a:off x="5375160" y="384480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68" name="文本框 23586"/>
              <p:cNvSpPr/>
              <p:nvPr/>
            </p:nvSpPr>
            <p:spPr>
              <a:xfrm>
                <a:off x="5589720" y="3589200"/>
                <a:ext cx="2793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÷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×  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 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669" name="组合 23587"/>
              <p:cNvGrpSpPr/>
              <p:nvPr/>
            </p:nvGrpSpPr>
            <p:grpSpPr>
              <a:xfrm>
                <a:off x="6348600" y="3405240"/>
                <a:ext cx="511200" cy="815040"/>
                <a:chOff x="6348600" y="3405240"/>
                <a:chExt cx="511200" cy="815040"/>
              </a:xfrm>
            </p:grpSpPr>
            <p:sp>
              <p:nvSpPr>
                <p:cNvPr id="1670" name="文本框 23588"/>
                <p:cNvSpPr/>
                <p:nvPr/>
              </p:nvSpPr>
              <p:spPr>
                <a:xfrm>
                  <a:off x="6355080" y="37605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1" name="文本框 23589"/>
                <p:cNvSpPr/>
                <p:nvPr/>
              </p:nvSpPr>
              <p:spPr>
                <a:xfrm>
                  <a:off x="6348600" y="34052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2" name="直接连接符 23590"/>
                <p:cNvSpPr/>
                <p:nvPr/>
              </p:nvSpPr>
              <p:spPr>
                <a:xfrm>
                  <a:off x="6364440" y="38242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673" name="组合 23591"/>
              <p:cNvGrpSpPr/>
              <p:nvPr/>
            </p:nvGrpSpPr>
            <p:grpSpPr>
              <a:xfrm>
                <a:off x="6967800" y="3405240"/>
                <a:ext cx="510480" cy="815040"/>
                <a:chOff x="6967800" y="3405240"/>
                <a:chExt cx="510480" cy="815040"/>
              </a:xfrm>
            </p:grpSpPr>
            <p:sp>
              <p:nvSpPr>
                <p:cNvPr id="1674" name="文本框 23592"/>
                <p:cNvSpPr/>
                <p:nvPr/>
              </p:nvSpPr>
              <p:spPr>
                <a:xfrm>
                  <a:off x="6973920" y="376056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5" name="文本框 23593"/>
                <p:cNvSpPr/>
                <p:nvPr/>
              </p:nvSpPr>
              <p:spPr>
                <a:xfrm>
                  <a:off x="6967800" y="340524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6" name="直接连接符 23594"/>
                <p:cNvSpPr/>
                <p:nvPr/>
              </p:nvSpPr>
              <p:spPr>
                <a:xfrm>
                  <a:off x="6983280" y="38242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677" name="组合 23595"/>
              <p:cNvGrpSpPr/>
              <p:nvPr/>
            </p:nvGrpSpPr>
            <p:grpSpPr>
              <a:xfrm>
                <a:off x="7500960" y="3405240"/>
                <a:ext cx="504720" cy="815400"/>
                <a:chOff x="7500960" y="3405240"/>
                <a:chExt cx="504720" cy="815400"/>
              </a:xfrm>
            </p:grpSpPr>
            <p:sp>
              <p:nvSpPr>
                <p:cNvPr id="1678" name="文本框 23596"/>
                <p:cNvSpPr/>
                <p:nvPr/>
              </p:nvSpPr>
              <p:spPr>
                <a:xfrm>
                  <a:off x="7500960" y="37609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9" name="文本框 23597"/>
                <p:cNvSpPr/>
                <p:nvPr/>
              </p:nvSpPr>
              <p:spPr>
                <a:xfrm>
                  <a:off x="7589880" y="34052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0" name="直接连接符 23598"/>
                <p:cNvSpPr/>
                <p:nvPr/>
              </p:nvSpPr>
              <p:spPr>
                <a:xfrm>
                  <a:off x="7567560" y="38242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1681" name="组合 23599"/>
          <p:cNvGrpSpPr/>
          <p:nvPr/>
        </p:nvGrpSpPr>
        <p:grpSpPr>
          <a:xfrm>
            <a:off x="142920" y="4149720"/>
            <a:ext cx="8429760" cy="815040"/>
            <a:chOff x="142920" y="4149720"/>
            <a:chExt cx="8429760" cy="815040"/>
          </a:xfrm>
        </p:grpSpPr>
        <p:sp>
          <p:nvSpPr>
            <p:cNvPr id="1682" name="Rectangle 2"/>
            <p:cNvSpPr/>
            <p:nvPr/>
          </p:nvSpPr>
          <p:spPr>
            <a:xfrm>
              <a:off x="142920" y="4214880"/>
              <a:ext cx="84297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问题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借助手中的学具，折一折，画一画，表示出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÷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的意义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83" name="组合 23601"/>
            <p:cNvGrpSpPr/>
            <p:nvPr/>
          </p:nvGrpSpPr>
          <p:grpSpPr>
            <a:xfrm>
              <a:off x="6184800" y="4149720"/>
              <a:ext cx="511200" cy="815040"/>
              <a:chOff x="6184800" y="4149720"/>
              <a:chExt cx="511200" cy="815040"/>
            </a:xfrm>
          </p:grpSpPr>
          <p:sp>
            <p:nvSpPr>
              <p:cNvPr id="1684" name="文本框 23602"/>
              <p:cNvSpPr/>
              <p:nvPr/>
            </p:nvSpPr>
            <p:spPr>
              <a:xfrm>
                <a:off x="6191280" y="4505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5" name="文本框 23603"/>
              <p:cNvSpPr/>
              <p:nvPr/>
            </p:nvSpPr>
            <p:spPr>
              <a:xfrm>
                <a:off x="6184800" y="4149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6" name="直接连接符 23604"/>
              <p:cNvSpPr/>
              <p:nvPr/>
            </p:nvSpPr>
            <p:spPr>
              <a:xfrm>
                <a:off x="6200640" y="4568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87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二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以整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TextBox 15"/>
          <p:cNvSpPr/>
          <p:nvPr/>
        </p:nvSpPr>
        <p:spPr>
          <a:xfrm>
            <a:off x="1360440" y="220500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计算下面各题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9" name="TextBox 6"/>
          <p:cNvSpPr/>
          <p:nvPr/>
        </p:nvSpPr>
        <p:spPr>
          <a:xfrm>
            <a:off x="395280" y="1413000"/>
            <a:ext cx="3643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三）巩固练习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90" name="组合 24579"/>
          <p:cNvGrpSpPr/>
          <p:nvPr/>
        </p:nvGrpSpPr>
        <p:grpSpPr>
          <a:xfrm>
            <a:off x="1424160" y="2882880"/>
            <a:ext cx="3434040" cy="1011240"/>
            <a:chOff x="1424160" y="2882880"/>
            <a:chExt cx="3434040" cy="1011240"/>
          </a:xfrm>
        </p:grpSpPr>
        <p:grpSp>
          <p:nvGrpSpPr>
            <p:cNvPr id="1691" name="组合 24580"/>
            <p:cNvGrpSpPr/>
            <p:nvPr/>
          </p:nvGrpSpPr>
          <p:grpSpPr>
            <a:xfrm>
              <a:off x="1424160" y="2882880"/>
              <a:ext cx="3434040" cy="1011240"/>
              <a:chOff x="1424160" y="2882880"/>
              <a:chExt cx="3434040" cy="1011240"/>
            </a:xfrm>
          </p:grpSpPr>
          <p:sp>
            <p:nvSpPr>
              <p:cNvPr id="1692" name="文本框 24581"/>
              <p:cNvSpPr/>
              <p:nvPr/>
            </p:nvSpPr>
            <p:spPr>
              <a:xfrm>
                <a:off x="1424160" y="32432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693" name="组合 24582"/>
              <p:cNvGrpSpPr/>
              <p:nvPr/>
            </p:nvGrpSpPr>
            <p:grpSpPr>
              <a:xfrm>
                <a:off x="1506240" y="2882880"/>
                <a:ext cx="3351960" cy="1011240"/>
                <a:chOff x="1506240" y="2882880"/>
                <a:chExt cx="3351960" cy="1011240"/>
              </a:xfrm>
            </p:grpSpPr>
            <p:sp>
              <p:nvSpPr>
                <p:cNvPr id="1694" name="文本框 24583"/>
                <p:cNvSpPr/>
                <p:nvPr/>
              </p:nvSpPr>
              <p:spPr>
                <a:xfrm>
                  <a:off x="1506240" y="290520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9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95" name="文本框 24584"/>
                <p:cNvSpPr/>
                <p:nvPr/>
              </p:nvSpPr>
              <p:spPr>
                <a:xfrm>
                  <a:off x="1736280" y="3068640"/>
                  <a:ext cx="27936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÷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   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×    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      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696" name="组合 24585"/>
                <p:cNvGrpSpPr/>
                <p:nvPr/>
              </p:nvGrpSpPr>
              <p:grpSpPr>
                <a:xfrm>
                  <a:off x="2318760" y="2895480"/>
                  <a:ext cx="1029600" cy="823320"/>
                  <a:chOff x="2318760" y="2895480"/>
                  <a:chExt cx="1029600" cy="823320"/>
                </a:xfrm>
              </p:grpSpPr>
              <p:grpSp>
                <p:nvGrpSpPr>
                  <p:cNvPr id="1697" name="组合 24586"/>
                  <p:cNvGrpSpPr/>
                  <p:nvPr/>
                </p:nvGrpSpPr>
                <p:grpSpPr>
                  <a:xfrm>
                    <a:off x="2318760" y="2895480"/>
                    <a:ext cx="1029600" cy="823320"/>
                    <a:chOff x="2318760" y="2895480"/>
                    <a:chExt cx="1029600" cy="823320"/>
                  </a:xfrm>
                </p:grpSpPr>
                <p:sp>
                  <p:nvSpPr>
                    <p:cNvPr id="1698" name="文本框 24587"/>
                    <p:cNvSpPr/>
                    <p:nvPr/>
                  </p:nvSpPr>
                  <p:spPr>
                    <a:xfrm>
                      <a:off x="2318760" y="3259080"/>
                      <a:ext cx="10202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99" name="文本框 24588"/>
                    <p:cNvSpPr/>
                    <p:nvPr/>
                  </p:nvSpPr>
                  <p:spPr>
                    <a:xfrm>
                      <a:off x="2327760" y="2895480"/>
                      <a:ext cx="1020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700" name="直接连接符 24589"/>
                  <p:cNvSpPr/>
                  <p:nvPr/>
                </p:nvSpPr>
                <p:spPr>
                  <a:xfrm>
                    <a:off x="2562840" y="3322800"/>
                    <a:ext cx="43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701" name="组合 24590"/>
                <p:cNvGrpSpPr/>
                <p:nvPr/>
              </p:nvGrpSpPr>
              <p:grpSpPr>
                <a:xfrm>
                  <a:off x="3094920" y="2892600"/>
                  <a:ext cx="1029600" cy="822960"/>
                  <a:chOff x="3094920" y="2892600"/>
                  <a:chExt cx="1029600" cy="822960"/>
                </a:xfrm>
              </p:grpSpPr>
              <p:grpSp>
                <p:nvGrpSpPr>
                  <p:cNvPr id="1702" name="组合 24591"/>
                  <p:cNvGrpSpPr/>
                  <p:nvPr/>
                </p:nvGrpSpPr>
                <p:grpSpPr>
                  <a:xfrm>
                    <a:off x="3094920" y="2892600"/>
                    <a:ext cx="1029600" cy="822960"/>
                    <a:chOff x="3094920" y="2892600"/>
                    <a:chExt cx="1029600" cy="822960"/>
                  </a:xfrm>
                </p:grpSpPr>
                <p:sp>
                  <p:nvSpPr>
                    <p:cNvPr id="1703" name="文本框 24592"/>
                    <p:cNvSpPr/>
                    <p:nvPr/>
                  </p:nvSpPr>
                  <p:spPr>
                    <a:xfrm>
                      <a:off x="3094920" y="3255840"/>
                      <a:ext cx="10202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704" name="文本框 24593"/>
                    <p:cNvSpPr/>
                    <p:nvPr/>
                  </p:nvSpPr>
                  <p:spPr>
                    <a:xfrm>
                      <a:off x="3103920" y="2892600"/>
                      <a:ext cx="1020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705" name="直接连接符 24594"/>
                  <p:cNvSpPr/>
                  <p:nvPr/>
                </p:nvSpPr>
                <p:spPr>
                  <a:xfrm>
                    <a:off x="3339360" y="3319560"/>
                    <a:ext cx="431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706" name="组合 24595"/>
                <p:cNvGrpSpPr/>
                <p:nvPr/>
              </p:nvGrpSpPr>
              <p:grpSpPr>
                <a:xfrm>
                  <a:off x="3828600" y="2882880"/>
                  <a:ext cx="1029600" cy="822960"/>
                  <a:chOff x="3828600" y="2882880"/>
                  <a:chExt cx="1029600" cy="822960"/>
                </a:xfrm>
              </p:grpSpPr>
              <p:grpSp>
                <p:nvGrpSpPr>
                  <p:cNvPr id="1707" name="组合 24596"/>
                  <p:cNvGrpSpPr/>
                  <p:nvPr/>
                </p:nvGrpSpPr>
                <p:grpSpPr>
                  <a:xfrm>
                    <a:off x="3828600" y="2882880"/>
                    <a:ext cx="1029600" cy="822960"/>
                    <a:chOff x="3828600" y="2882880"/>
                    <a:chExt cx="1029600" cy="822960"/>
                  </a:xfrm>
                </p:grpSpPr>
                <p:sp>
                  <p:nvSpPr>
                    <p:cNvPr id="1708" name="文本框 24597"/>
                    <p:cNvSpPr/>
                    <p:nvPr/>
                  </p:nvSpPr>
                  <p:spPr>
                    <a:xfrm>
                      <a:off x="3828600" y="3246120"/>
                      <a:ext cx="10202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709" name="文本框 24598"/>
                    <p:cNvSpPr/>
                    <p:nvPr/>
                  </p:nvSpPr>
                  <p:spPr>
                    <a:xfrm>
                      <a:off x="3837600" y="2882880"/>
                      <a:ext cx="1020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0" name="直接连接符 24599"/>
                  <p:cNvSpPr/>
                  <p:nvPr/>
                </p:nvSpPr>
                <p:spPr>
                  <a:xfrm>
                    <a:off x="4073040" y="3309840"/>
                    <a:ext cx="431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11" name="直接连接符 24600"/>
            <p:cNvSpPr/>
            <p:nvPr/>
          </p:nvSpPr>
          <p:spPr>
            <a:xfrm>
              <a:off x="1522080" y="332424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12" name="组合 24601"/>
          <p:cNvGrpSpPr/>
          <p:nvPr/>
        </p:nvGrpSpPr>
        <p:grpSpPr>
          <a:xfrm>
            <a:off x="2548080" y="2892600"/>
            <a:ext cx="647640" cy="818280"/>
            <a:chOff x="2548080" y="2892600"/>
            <a:chExt cx="647640" cy="818280"/>
          </a:xfrm>
        </p:grpSpPr>
        <p:sp>
          <p:nvSpPr>
            <p:cNvPr id="1713" name="文本框 24602"/>
            <p:cNvSpPr/>
            <p:nvPr/>
          </p:nvSpPr>
          <p:spPr>
            <a:xfrm>
              <a:off x="2638440" y="289260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4" name="文本框 24603"/>
            <p:cNvSpPr/>
            <p:nvPr/>
          </p:nvSpPr>
          <p:spPr>
            <a:xfrm>
              <a:off x="2548080" y="3251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15" name="组合 24604"/>
          <p:cNvGrpSpPr/>
          <p:nvPr/>
        </p:nvGrpSpPr>
        <p:grpSpPr>
          <a:xfrm>
            <a:off x="3397320" y="2892600"/>
            <a:ext cx="648720" cy="818280"/>
            <a:chOff x="3397320" y="2892600"/>
            <a:chExt cx="648720" cy="818280"/>
          </a:xfrm>
        </p:grpSpPr>
        <p:sp>
          <p:nvSpPr>
            <p:cNvPr id="1716" name="文本框 24605"/>
            <p:cNvSpPr/>
            <p:nvPr/>
          </p:nvSpPr>
          <p:spPr>
            <a:xfrm>
              <a:off x="3397320" y="289260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7" name="文本框 24606"/>
            <p:cNvSpPr/>
            <p:nvPr/>
          </p:nvSpPr>
          <p:spPr>
            <a:xfrm>
              <a:off x="3398400" y="3251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18" name="组合 24607"/>
          <p:cNvGrpSpPr/>
          <p:nvPr/>
        </p:nvGrpSpPr>
        <p:grpSpPr>
          <a:xfrm>
            <a:off x="4044960" y="2882880"/>
            <a:ext cx="647640" cy="818280"/>
            <a:chOff x="4044960" y="2882880"/>
            <a:chExt cx="647640" cy="818280"/>
          </a:xfrm>
        </p:grpSpPr>
        <p:sp>
          <p:nvSpPr>
            <p:cNvPr id="1719" name="文本框 24608"/>
            <p:cNvSpPr/>
            <p:nvPr/>
          </p:nvSpPr>
          <p:spPr>
            <a:xfrm>
              <a:off x="4135320" y="288288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20" name="文本框 24609"/>
            <p:cNvSpPr/>
            <p:nvPr/>
          </p:nvSpPr>
          <p:spPr>
            <a:xfrm>
              <a:off x="4044960" y="32414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21" name="组合 24610"/>
          <p:cNvGrpSpPr/>
          <p:nvPr/>
        </p:nvGrpSpPr>
        <p:grpSpPr>
          <a:xfrm>
            <a:off x="1479600" y="3860640"/>
            <a:ext cx="3358440" cy="1011240"/>
            <a:chOff x="1479600" y="3860640"/>
            <a:chExt cx="3358440" cy="1011240"/>
          </a:xfrm>
        </p:grpSpPr>
        <p:sp>
          <p:nvSpPr>
            <p:cNvPr id="1722" name="文本框 24611"/>
            <p:cNvSpPr/>
            <p:nvPr/>
          </p:nvSpPr>
          <p:spPr>
            <a:xfrm>
              <a:off x="1479600" y="4221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23" name="组合 24612"/>
            <p:cNvGrpSpPr/>
            <p:nvPr/>
          </p:nvGrpSpPr>
          <p:grpSpPr>
            <a:xfrm>
              <a:off x="1486080" y="3860640"/>
              <a:ext cx="3351960" cy="1011240"/>
              <a:chOff x="1486080" y="3860640"/>
              <a:chExt cx="3351960" cy="1011240"/>
            </a:xfrm>
          </p:grpSpPr>
          <p:sp>
            <p:nvSpPr>
              <p:cNvPr id="1724" name="文本框 24613"/>
              <p:cNvSpPr/>
              <p:nvPr/>
            </p:nvSpPr>
            <p:spPr>
              <a:xfrm>
                <a:off x="1486080" y="38829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25" name="文本框 24614"/>
              <p:cNvSpPr/>
              <p:nvPr/>
            </p:nvSpPr>
            <p:spPr>
              <a:xfrm>
                <a:off x="1716120" y="4046400"/>
                <a:ext cx="2793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÷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   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×    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      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26" name="组合 24615"/>
              <p:cNvGrpSpPr/>
              <p:nvPr/>
            </p:nvGrpSpPr>
            <p:grpSpPr>
              <a:xfrm>
                <a:off x="2298600" y="3873240"/>
                <a:ext cx="1029600" cy="823320"/>
                <a:chOff x="2298600" y="3873240"/>
                <a:chExt cx="1029600" cy="823320"/>
              </a:xfrm>
            </p:grpSpPr>
            <p:grpSp>
              <p:nvGrpSpPr>
                <p:cNvPr id="1727" name="组合 24616"/>
                <p:cNvGrpSpPr/>
                <p:nvPr/>
              </p:nvGrpSpPr>
              <p:grpSpPr>
                <a:xfrm>
                  <a:off x="2298600" y="3873240"/>
                  <a:ext cx="1029600" cy="823320"/>
                  <a:chOff x="2298600" y="3873240"/>
                  <a:chExt cx="1029600" cy="823320"/>
                </a:xfrm>
              </p:grpSpPr>
              <p:sp>
                <p:nvSpPr>
                  <p:cNvPr id="1728" name="文本框 24617"/>
                  <p:cNvSpPr/>
                  <p:nvPr/>
                </p:nvSpPr>
                <p:spPr>
                  <a:xfrm>
                    <a:off x="2298600" y="4236840"/>
                    <a:ext cx="1020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（   ）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29" name="文本框 24618"/>
                  <p:cNvSpPr/>
                  <p:nvPr/>
                </p:nvSpPr>
                <p:spPr>
                  <a:xfrm>
                    <a:off x="2307600" y="3873240"/>
                    <a:ext cx="1020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（   ）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730" name="直接连接符 24619"/>
                <p:cNvSpPr/>
                <p:nvPr/>
              </p:nvSpPr>
              <p:spPr>
                <a:xfrm>
                  <a:off x="2542680" y="4300560"/>
                  <a:ext cx="431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731" name="组合 24620"/>
              <p:cNvGrpSpPr/>
              <p:nvPr/>
            </p:nvGrpSpPr>
            <p:grpSpPr>
              <a:xfrm>
                <a:off x="3074760" y="3870360"/>
                <a:ext cx="1029600" cy="822960"/>
                <a:chOff x="3074760" y="3870360"/>
                <a:chExt cx="1029600" cy="822960"/>
              </a:xfrm>
            </p:grpSpPr>
            <p:grpSp>
              <p:nvGrpSpPr>
                <p:cNvPr id="1732" name="组合 24621"/>
                <p:cNvGrpSpPr/>
                <p:nvPr/>
              </p:nvGrpSpPr>
              <p:grpSpPr>
                <a:xfrm>
                  <a:off x="3074760" y="3870360"/>
                  <a:ext cx="1029600" cy="822960"/>
                  <a:chOff x="3074760" y="3870360"/>
                  <a:chExt cx="1029600" cy="822960"/>
                </a:xfrm>
              </p:grpSpPr>
              <p:sp>
                <p:nvSpPr>
                  <p:cNvPr id="1733" name="文本框 24622"/>
                  <p:cNvSpPr/>
                  <p:nvPr/>
                </p:nvSpPr>
                <p:spPr>
                  <a:xfrm>
                    <a:off x="3074760" y="4233600"/>
                    <a:ext cx="1020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（   ）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34" name="文本框 24623"/>
                  <p:cNvSpPr/>
                  <p:nvPr/>
                </p:nvSpPr>
                <p:spPr>
                  <a:xfrm>
                    <a:off x="3083760" y="3870360"/>
                    <a:ext cx="1020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（   ）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735" name="直接连接符 24624"/>
                <p:cNvSpPr/>
                <p:nvPr/>
              </p:nvSpPr>
              <p:spPr>
                <a:xfrm>
                  <a:off x="3319200" y="4297320"/>
                  <a:ext cx="431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736" name="组合 24625"/>
              <p:cNvGrpSpPr/>
              <p:nvPr/>
            </p:nvGrpSpPr>
            <p:grpSpPr>
              <a:xfrm>
                <a:off x="3808440" y="3860640"/>
                <a:ext cx="1029600" cy="822960"/>
                <a:chOff x="3808440" y="3860640"/>
                <a:chExt cx="1029600" cy="822960"/>
              </a:xfrm>
            </p:grpSpPr>
            <p:grpSp>
              <p:nvGrpSpPr>
                <p:cNvPr id="1737" name="组合 24626"/>
                <p:cNvGrpSpPr/>
                <p:nvPr/>
              </p:nvGrpSpPr>
              <p:grpSpPr>
                <a:xfrm>
                  <a:off x="3808440" y="3860640"/>
                  <a:ext cx="1029600" cy="822960"/>
                  <a:chOff x="3808440" y="3860640"/>
                  <a:chExt cx="1029600" cy="822960"/>
                </a:xfrm>
              </p:grpSpPr>
              <p:sp>
                <p:nvSpPr>
                  <p:cNvPr id="1738" name="文本框 24627"/>
                  <p:cNvSpPr/>
                  <p:nvPr/>
                </p:nvSpPr>
                <p:spPr>
                  <a:xfrm>
                    <a:off x="3808440" y="4223880"/>
                    <a:ext cx="1020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（   ）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39" name="文本框 24628"/>
                  <p:cNvSpPr/>
                  <p:nvPr/>
                </p:nvSpPr>
                <p:spPr>
                  <a:xfrm>
                    <a:off x="3817440" y="3860640"/>
                    <a:ext cx="1020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（   ）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740" name="直接连接符 24629"/>
                <p:cNvSpPr/>
                <p:nvPr/>
              </p:nvSpPr>
              <p:spPr>
                <a:xfrm>
                  <a:off x="4052880" y="4287600"/>
                  <a:ext cx="431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741" name="直接连接符 24630"/>
            <p:cNvSpPr/>
            <p:nvPr/>
          </p:nvSpPr>
          <p:spPr>
            <a:xfrm>
              <a:off x="1501920" y="430200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42" name="组合 24631"/>
          <p:cNvGrpSpPr/>
          <p:nvPr/>
        </p:nvGrpSpPr>
        <p:grpSpPr>
          <a:xfrm>
            <a:off x="2589120" y="3870360"/>
            <a:ext cx="647640" cy="818640"/>
            <a:chOff x="2589120" y="3870360"/>
            <a:chExt cx="647640" cy="818640"/>
          </a:xfrm>
        </p:grpSpPr>
        <p:sp>
          <p:nvSpPr>
            <p:cNvPr id="1743" name="文本框 24632"/>
            <p:cNvSpPr/>
            <p:nvPr/>
          </p:nvSpPr>
          <p:spPr>
            <a:xfrm>
              <a:off x="2598480" y="387036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4" name="文本框 24633"/>
            <p:cNvSpPr/>
            <p:nvPr/>
          </p:nvSpPr>
          <p:spPr>
            <a:xfrm>
              <a:off x="2589120" y="42292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45" name="组合 24634"/>
          <p:cNvGrpSpPr/>
          <p:nvPr/>
        </p:nvGrpSpPr>
        <p:grpSpPr>
          <a:xfrm>
            <a:off x="3376440" y="3870360"/>
            <a:ext cx="649440" cy="818280"/>
            <a:chOff x="3376440" y="3870360"/>
            <a:chExt cx="649440" cy="818280"/>
          </a:xfrm>
        </p:grpSpPr>
        <p:sp>
          <p:nvSpPr>
            <p:cNvPr id="1746" name="文本框 24635"/>
            <p:cNvSpPr/>
            <p:nvPr/>
          </p:nvSpPr>
          <p:spPr>
            <a:xfrm>
              <a:off x="3376440" y="38703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7" name="文本框 24636"/>
            <p:cNvSpPr/>
            <p:nvPr/>
          </p:nvSpPr>
          <p:spPr>
            <a:xfrm>
              <a:off x="3377880" y="422892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48" name="组合 24637"/>
          <p:cNvGrpSpPr/>
          <p:nvPr/>
        </p:nvGrpSpPr>
        <p:grpSpPr>
          <a:xfrm>
            <a:off x="4024440" y="3860640"/>
            <a:ext cx="647640" cy="818280"/>
            <a:chOff x="4024440" y="3860640"/>
            <a:chExt cx="647640" cy="818280"/>
          </a:xfrm>
        </p:grpSpPr>
        <p:sp>
          <p:nvSpPr>
            <p:cNvPr id="1749" name="文本框 24638"/>
            <p:cNvSpPr/>
            <p:nvPr/>
          </p:nvSpPr>
          <p:spPr>
            <a:xfrm>
              <a:off x="4114800" y="386064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50" name="文本框 24639"/>
            <p:cNvSpPr/>
            <p:nvPr/>
          </p:nvSpPr>
          <p:spPr>
            <a:xfrm>
              <a:off x="4024440" y="42192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51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二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以整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TextBox 50"/>
          <p:cNvSpPr/>
          <p:nvPr/>
        </p:nvSpPr>
        <p:spPr>
          <a:xfrm>
            <a:off x="395280" y="1413000"/>
            <a:ext cx="547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引入情境，探究新知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3" name="Rectangle 2"/>
          <p:cNvSpPr/>
          <p:nvPr/>
        </p:nvSpPr>
        <p:spPr>
          <a:xfrm>
            <a:off x="142920" y="4862520"/>
            <a:ext cx="84297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读懂了什么？想到了什么？请你根据信息画出线段图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4" name="Rectangle 2"/>
          <p:cNvSpPr/>
          <p:nvPr/>
        </p:nvSpPr>
        <p:spPr>
          <a:xfrm>
            <a:off x="558720" y="5576760"/>
            <a:ext cx="9053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要想比谁走得快，我们可以比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比较平均每小时走的路程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比较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所用的时间（本课时先解决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可机动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55" name="图片 25604" descr="32"/>
          <p:cNvPicPr/>
          <p:nvPr/>
        </p:nvPicPr>
        <p:blipFill>
          <a:blip r:embed="rId1"/>
          <a:stretch/>
        </p:blipFill>
        <p:spPr>
          <a:xfrm>
            <a:off x="544680" y="2060640"/>
            <a:ext cx="4458960" cy="2878200"/>
          </a:xfrm>
          <a:prstGeom prst="rect">
            <a:avLst/>
          </a:prstGeom>
          <a:ln w="0">
            <a:noFill/>
          </a:ln>
        </p:spPr>
      </p:pic>
      <p:grpSp>
        <p:nvGrpSpPr>
          <p:cNvPr id="1756" name="组合 25605"/>
          <p:cNvGrpSpPr/>
          <p:nvPr/>
        </p:nvGrpSpPr>
        <p:grpSpPr>
          <a:xfrm>
            <a:off x="5814720" y="1916280"/>
            <a:ext cx="2215080" cy="815040"/>
            <a:chOff x="5814720" y="1916280"/>
            <a:chExt cx="2215080" cy="815040"/>
          </a:xfrm>
        </p:grpSpPr>
        <p:sp>
          <p:nvSpPr>
            <p:cNvPr id="1757" name="Rectangle 49"/>
            <p:cNvSpPr/>
            <p:nvPr/>
          </p:nvSpPr>
          <p:spPr>
            <a:xfrm>
              <a:off x="5814720" y="2024640"/>
              <a:ext cx="2215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小明     小时走了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k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，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58" name="组合 25607"/>
            <p:cNvGrpSpPr/>
            <p:nvPr/>
          </p:nvGrpSpPr>
          <p:grpSpPr>
            <a:xfrm>
              <a:off x="6086520" y="1916280"/>
              <a:ext cx="511200" cy="815040"/>
              <a:chOff x="6086520" y="1916280"/>
              <a:chExt cx="511200" cy="815040"/>
            </a:xfrm>
          </p:grpSpPr>
          <p:sp>
            <p:nvSpPr>
              <p:cNvPr id="1759" name="文本框 25608"/>
              <p:cNvSpPr/>
              <p:nvPr/>
            </p:nvSpPr>
            <p:spPr>
              <a:xfrm>
                <a:off x="6093000" y="2271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0" name="文本框 25609"/>
              <p:cNvSpPr/>
              <p:nvPr/>
            </p:nvSpPr>
            <p:spPr>
              <a:xfrm>
                <a:off x="6086520" y="1916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1" name="直接连接符 25610"/>
              <p:cNvSpPr/>
              <p:nvPr/>
            </p:nvSpPr>
            <p:spPr>
              <a:xfrm>
                <a:off x="6102360" y="23353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62" name="组合 25611"/>
          <p:cNvGrpSpPr/>
          <p:nvPr/>
        </p:nvGrpSpPr>
        <p:grpSpPr>
          <a:xfrm>
            <a:off x="5320800" y="2556000"/>
            <a:ext cx="2474280" cy="1215720"/>
            <a:chOff x="5320800" y="2556000"/>
            <a:chExt cx="2474280" cy="1215720"/>
          </a:xfrm>
        </p:grpSpPr>
        <p:sp>
          <p:nvSpPr>
            <p:cNvPr id="1763" name="Rectangle 49"/>
            <p:cNvSpPr/>
            <p:nvPr/>
          </p:nvSpPr>
          <p:spPr>
            <a:xfrm>
              <a:off x="5320800" y="2671920"/>
              <a:ext cx="2474280" cy="10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小红     小时走了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k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。谁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走得快些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？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64" name="组合 25613"/>
            <p:cNvGrpSpPr/>
            <p:nvPr/>
          </p:nvGrpSpPr>
          <p:grpSpPr>
            <a:xfrm>
              <a:off x="5470560" y="2556000"/>
              <a:ext cx="504720" cy="797760"/>
              <a:chOff x="5470560" y="2556000"/>
              <a:chExt cx="504720" cy="797760"/>
            </a:xfrm>
          </p:grpSpPr>
          <p:sp>
            <p:nvSpPr>
              <p:cNvPr id="1765" name="文本框 25614"/>
              <p:cNvSpPr/>
              <p:nvPr/>
            </p:nvSpPr>
            <p:spPr>
              <a:xfrm>
                <a:off x="5470560" y="2894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6" name="文本框 25615"/>
              <p:cNvSpPr/>
              <p:nvPr/>
            </p:nvSpPr>
            <p:spPr>
              <a:xfrm>
                <a:off x="5553000" y="2556000"/>
                <a:ext cx="36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7" name="直接连接符 25616"/>
              <p:cNvSpPr/>
              <p:nvPr/>
            </p:nvSpPr>
            <p:spPr>
              <a:xfrm>
                <a:off x="5569200" y="29750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68" name="组合 25617"/>
            <p:cNvGrpSpPr/>
            <p:nvPr/>
          </p:nvGrpSpPr>
          <p:grpSpPr>
            <a:xfrm>
              <a:off x="6865920" y="2558880"/>
              <a:ext cx="511200" cy="815040"/>
              <a:chOff x="6865920" y="2558880"/>
              <a:chExt cx="511200" cy="815040"/>
            </a:xfrm>
          </p:grpSpPr>
          <p:sp>
            <p:nvSpPr>
              <p:cNvPr id="1769" name="文本框 25618"/>
              <p:cNvSpPr/>
              <p:nvPr/>
            </p:nvSpPr>
            <p:spPr>
              <a:xfrm>
                <a:off x="6872400" y="2914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0" name="文本框 25619"/>
              <p:cNvSpPr/>
              <p:nvPr/>
            </p:nvSpPr>
            <p:spPr>
              <a:xfrm>
                <a:off x="6865920" y="2558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1" name="直接连接符 25620"/>
              <p:cNvSpPr/>
              <p:nvPr/>
            </p:nvSpPr>
            <p:spPr>
              <a:xfrm>
                <a:off x="6881760" y="29779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72" name="组合 25621"/>
          <p:cNvGrpSpPr/>
          <p:nvPr/>
        </p:nvGrpSpPr>
        <p:grpSpPr>
          <a:xfrm>
            <a:off x="5867280" y="3606840"/>
            <a:ext cx="2160720" cy="1378800"/>
            <a:chOff x="5867280" y="3606840"/>
            <a:chExt cx="2160720" cy="1378800"/>
          </a:xfrm>
        </p:grpSpPr>
        <p:sp>
          <p:nvSpPr>
            <p:cNvPr id="1773" name="左大括号 25622"/>
            <p:cNvSpPr/>
            <p:nvPr/>
          </p:nvSpPr>
          <p:spPr>
            <a:xfrm rot="16200000">
              <a:off x="6875280" y="3486960"/>
              <a:ext cx="142920" cy="215928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56160 h 2159280"/>
                <a:gd name="textAreaBottom" fmla="*/ 2103120 h 21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74" name="组合 25623"/>
            <p:cNvGrpSpPr/>
            <p:nvPr/>
          </p:nvGrpSpPr>
          <p:grpSpPr>
            <a:xfrm>
              <a:off x="5867280" y="4398840"/>
              <a:ext cx="2160720" cy="81000"/>
              <a:chOff x="5867280" y="4398840"/>
              <a:chExt cx="2160720" cy="81000"/>
            </a:xfrm>
          </p:grpSpPr>
          <p:sp>
            <p:nvSpPr>
              <p:cNvPr id="1775" name="直接连接符 25624"/>
              <p:cNvSpPr/>
              <p:nvPr/>
            </p:nvSpPr>
            <p:spPr>
              <a:xfrm>
                <a:off x="5867280" y="4470480"/>
                <a:ext cx="2159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6" name="直接连接符 25625"/>
              <p:cNvSpPr/>
              <p:nvPr/>
            </p:nvSpPr>
            <p:spPr>
              <a:xfrm>
                <a:off x="5867280" y="4408560"/>
                <a:ext cx="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7" name="直接连接符 25626"/>
              <p:cNvSpPr/>
              <p:nvPr/>
            </p:nvSpPr>
            <p:spPr>
              <a:xfrm>
                <a:off x="8028000" y="4398840"/>
                <a:ext cx="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78" name="左大括号 25627"/>
            <p:cNvSpPr/>
            <p:nvPr/>
          </p:nvSpPr>
          <p:spPr>
            <a:xfrm flipV="1" rot="5400000">
              <a:off x="6875640" y="3205080"/>
              <a:ext cx="142560" cy="215928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56160 h 2159280"/>
                <a:gd name="textAreaBottom" fmla="*/ 2103120 h 21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79" name="矩形 25628"/>
            <p:cNvSpPr/>
            <p:nvPr/>
          </p:nvSpPr>
          <p:spPr>
            <a:xfrm>
              <a:off x="6677280" y="4562640"/>
              <a:ext cx="5738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80" name="组合 25629"/>
            <p:cNvGrpSpPr/>
            <p:nvPr/>
          </p:nvGrpSpPr>
          <p:grpSpPr>
            <a:xfrm>
              <a:off x="6659640" y="3606840"/>
              <a:ext cx="511200" cy="726120"/>
              <a:chOff x="6659640" y="3606840"/>
              <a:chExt cx="511200" cy="726120"/>
            </a:xfrm>
          </p:grpSpPr>
          <p:sp>
            <p:nvSpPr>
              <p:cNvPr id="1781" name="文本框 25630"/>
              <p:cNvSpPr/>
              <p:nvPr/>
            </p:nvSpPr>
            <p:spPr>
              <a:xfrm>
                <a:off x="6666120" y="39099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2" name="文本框 25631"/>
              <p:cNvSpPr/>
              <p:nvPr/>
            </p:nvSpPr>
            <p:spPr>
              <a:xfrm>
                <a:off x="6659640" y="36068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3" name="直接连接符 25632"/>
              <p:cNvSpPr/>
              <p:nvPr/>
            </p:nvSpPr>
            <p:spPr>
              <a:xfrm>
                <a:off x="6675480" y="3992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84" name="文本框 25633"/>
            <p:cNvSpPr/>
            <p:nvPr/>
          </p:nvSpPr>
          <p:spPr>
            <a:xfrm>
              <a:off x="6939000" y="3751200"/>
              <a:ext cx="719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小时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85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个数除以分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TextBox 50"/>
          <p:cNvSpPr/>
          <p:nvPr/>
        </p:nvSpPr>
        <p:spPr>
          <a:xfrm>
            <a:off x="396720" y="1413000"/>
            <a:ext cx="576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自主操作，深入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7" name="TextBox 4"/>
          <p:cNvSpPr/>
          <p:nvPr/>
        </p:nvSpPr>
        <p:spPr>
          <a:xfrm>
            <a:off x="1143000" y="221472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解决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小明平均每小时走多少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8" name="Rectangle 2"/>
          <p:cNvSpPr/>
          <p:nvPr/>
        </p:nvSpPr>
        <p:spPr>
          <a:xfrm>
            <a:off x="679320" y="5599080"/>
            <a:ext cx="84297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思考，在刚才的线段图上如何表示小明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时走的路程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89" name="组合 26628"/>
          <p:cNvGrpSpPr/>
          <p:nvPr/>
        </p:nvGrpSpPr>
        <p:grpSpPr>
          <a:xfrm>
            <a:off x="2916360" y="2997360"/>
            <a:ext cx="2160360" cy="1378440"/>
            <a:chOff x="2916360" y="2997360"/>
            <a:chExt cx="2160360" cy="1378440"/>
          </a:xfrm>
        </p:grpSpPr>
        <p:sp>
          <p:nvSpPr>
            <p:cNvPr id="1790" name="左大括号 26629"/>
            <p:cNvSpPr/>
            <p:nvPr/>
          </p:nvSpPr>
          <p:spPr>
            <a:xfrm rot="16200000">
              <a:off x="3924360" y="2877480"/>
              <a:ext cx="142560" cy="215892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56160 h 2158920"/>
                <a:gd name="textAreaBottom" fmla="*/ 2102760 h 21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91" name="组合 26630"/>
            <p:cNvGrpSpPr/>
            <p:nvPr/>
          </p:nvGrpSpPr>
          <p:grpSpPr>
            <a:xfrm>
              <a:off x="2916360" y="3789000"/>
              <a:ext cx="2160360" cy="80280"/>
              <a:chOff x="2916360" y="3789000"/>
              <a:chExt cx="2160360" cy="80280"/>
            </a:xfrm>
          </p:grpSpPr>
          <p:sp>
            <p:nvSpPr>
              <p:cNvPr id="1792" name="直接连接符 26631"/>
              <p:cNvSpPr/>
              <p:nvPr/>
            </p:nvSpPr>
            <p:spPr>
              <a:xfrm>
                <a:off x="2916360" y="3860280"/>
                <a:ext cx="2158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3" name="直接连接符 26632"/>
              <p:cNvSpPr/>
              <p:nvPr/>
            </p:nvSpPr>
            <p:spPr>
              <a:xfrm>
                <a:off x="2916360" y="3798360"/>
                <a:ext cx="0" cy="7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4" name="直接连接符 26633"/>
              <p:cNvSpPr/>
              <p:nvPr/>
            </p:nvSpPr>
            <p:spPr>
              <a:xfrm>
                <a:off x="5076720" y="3789000"/>
                <a:ext cx="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95" name="左大括号 26634"/>
            <p:cNvSpPr/>
            <p:nvPr/>
          </p:nvSpPr>
          <p:spPr>
            <a:xfrm flipV="1" rot="5400000">
              <a:off x="3924720" y="2594160"/>
              <a:ext cx="142200" cy="2158920"/>
            </a:xfrm>
            <a:custGeom>
              <a:avLst/>
              <a:gdLst>
                <a:gd name="textAreaLeft" fmla="*/ 91080 w 142200"/>
                <a:gd name="textAreaRight" fmla="*/ 142560 w 142200"/>
                <a:gd name="textAreaTop" fmla="*/ 56160 h 2158920"/>
                <a:gd name="textAreaBottom" fmla="*/ 2102760 h 21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6" name="矩形 26635"/>
            <p:cNvSpPr/>
            <p:nvPr/>
          </p:nvSpPr>
          <p:spPr>
            <a:xfrm>
              <a:off x="3726000" y="3952800"/>
              <a:ext cx="5738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97" name="组合 26636"/>
            <p:cNvGrpSpPr/>
            <p:nvPr/>
          </p:nvGrpSpPr>
          <p:grpSpPr>
            <a:xfrm>
              <a:off x="3708360" y="2997360"/>
              <a:ext cx="510480" cy="725760"/>
              <a:chOff x="3708360" y="2997360"/>
              <a:chExt cx="510480" cy="725760"/>
            </a:xfrm>
          </p:grpSpPr>
          <p:sp>
            <p:nvSpPr>
              <p:cNvPr id="1798" name="文本框 26637"/>
              <p:cNvSpPr/>
              <p:nvPr/>
            </p:nvSpPr>
            <p:spPr>
              <a:xfrm>
                <a:off x="3714480" y="330012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9" name="文本框 26638"/>
              <p:cNvSpPr/>
              <p:nvPr/>
            </p:nvSpPr>
            <p:spPr>
              <a:xfrm>
                <a:off x="3708360" y="299736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00" name="直接连接符 26639"/>
              <p:cNvSpPr/>
              <p:nvPr/>
            </p:nvSpPr>
            <p:spPr>
              <a:xfrm>
                <a:off x="3723840" y="338292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801" name="文本框 26640"/>
            <p:cNvSpPr/>
            <p:nvPr/>
          </p:nvSpPr>
          <p:spPr>
            <a:xfrm>
              <a:off x="3987720" y="3141360"/>
              <a:ext cx="718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小时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02" name="组合 26641"/>
          <p:cNvGrpSpPr/>
          <p:nvPr/>
        </p:nvGrpSpPr>
        <p:grpSpPr>
          <a:xfrm>
            <a:off x="250920" y="4797360"/>
            <a:ext cx="8568720" cy="1026720"/>
            <a:chOff x="250920" y="4797360"/>
            <a:chExt cx="8568720" cy="1026720"/>
          </a:xfrm>
        </p:grpSpPr>
        <p:sp>
          <p:nvSpPr>
            <p:cNvPr id="1803" name="Rectangle 2"/>
            <p:cNvSpPr/>
            <p:nvPr/>
          </p:nvSpPr>
          <p:spPr>
            <a:xfrm>
              <a:off x="250920" y="4797360"/>
              <a:ext cx="856872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问题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怎样求上面的问题？用到了我们以前学过的什么知识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路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÷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时间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速度）请你列出算式。（              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04" name="组合 26643"/>
            <p:cNvGrpSpPr/>
            <p:nvPr/>
          </p:nvGrpSpPr>
          <p:grpSpPr>
            <a:xfrm>
              <a:off x="6087240" y="5022000"/>
              <a:ext cx="961560" cy="802080"/>
              <a:chOff x="6087240" y="5022000"/>
              <a:chExt cx="961560" cy="802080"/>
            </a:xfrm>
          </p:grpSpPr>
          <p:sp>
            <p:nvSpPr>
              <p:cNvPr id="1805" name="Rectangle 49"/>
              <p:cNvSpPr/>
              <p:nvPr/>
            </p:nvSpPr>
            <p:spPr>
              <a:xfrm>
                <a:off x="6087240" y="5171400"/>
                <a:ext cx="46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2÷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806" name="组合 26645"/>
              <p:cNvGrpSpPr/>
              <p:nvPr/>
            </p:nvGrpSpPr>
            <p:grpSpPr>
              <a:xfrm>
                <a:off x="6529680" y="5022000"/>
                <a:ext cx="519120" cy="802080"/>
                <a:chOff x="6529680" y="5022000"/>
                <a:chExt cx="519120" cy="802080"/>
              </a:xfrm>
            </p:grpSpPr>
            <p:sp>
              <p:nvSpPr>
                <p:cNvPr id="1807" name="文本框 26646"/>
                <p:cNvSpPr/>
                <p:nvPr/>
              </p:nvSpPr>
              <p:spPr>
                <a:xfrm>
                  <a:off x="6536160" y="5364360"/>
                  <a:ext cx="512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08" name="文本框 26647"/>
                <p:cNvSpPr/>
                <p:nvPr/>
              </p:nvSpPr>
              <p:spPr>
                <a:xfrm>
                  <a:off x="6529680" y="5022000"/>
                  <a:ext cx="366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09" name="直接连接符 26648"/>
                <p:cNvSpPr/>
                <p:nvPr/>
              </p:nvSpPr>
              <p:spPr>
                <a:xfrm>
                  <a:off x="6545520" y="5425920"/>
                  <a:ext cx="291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1810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个数除以分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6:26Z</dcterms:modified>
  <cp:revision>3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